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1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wmf" ContentType="image/x-wmf"/>
  <Override PartName="/ppt/media/image22.wmf" ContentType="image/x-wmf"/>
  <Override PartName="/ppt/media/image21.png" ContentType="image/png"/>
  <Override PartName="/ppt/media/image19.wmf" ContentType="image/x-wmf"/>
  <Override PartName="/ppt/media/image2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907588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2332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Métodos Numéricos y de Simulación</a:t>
            </a:r>
            <a:endParaRPr b="0" lang="en-US" sz="10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1"/>
          </p:nvPr>
        </p:nvSpPr>
        <p:spPr>
          <a:xfrm>
            <a:off x="3685680" y="0"/>
            <a:ext cx="3110040" cy="2332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Rocío del Río – Dpto. Electrónica y Electromagnetismo (US)</a:t>
            </a:r>
            <a:endParaRPr b="0" lang="en-US" sz="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sldImg"/>
          </p:nvPr>
        </p:nvSpPr>
        <p:spPr>
          <a:xfrm>
            <a:off x="709560" y="744120"/>
            <a:ext cx="53784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720" rIns="9072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body"/>
          </p:nvPr>
        </p:nvSpPr>
        <p:spPr>
          <a:xfrm>
            <a:off x="566280" y="4885920"/>
            <a:ext cx="5877000" cy="45752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 algn="just"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ftr" idx="2"/>
          </p:nvPr>
        </p:nvSpPr>
        <p:spPr>
          <a:xfrm>
            <a:off x="-360" y="9693360"/>
            <a:ext cx="4329000" cy="2318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Arial"/>
              </a:rPr>
              <a:t>Grado en Física – Universidad de Sevilla</a:t>
            </a:r>
            <a:endParaRPr b="0" lang="en-US" sz="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 type="sldNum" idx="3"/>
          </p:nvPr>
        </p:nvSpPr>
        <p:spPr>
          <a:xfrm>
            <a:off x="5665680" y="9693360"/>
            <a:ext cx="1130400" cy="2318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7EBFE-F05A-4C85-BD7B-F2E7917CE502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709560" y="744480"/>
            <a:ext cx="5378400" cy="372276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566280" y="4885920"/>
            <a:ext cx="5877000" cy="45752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 algn="just"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Calibri"/>
              </a:rPr>
              <a:t>eps = epsilon (&lt;&lt;), introducida por si da la casualidad posible de que el número aleatorio generado sea exactamente 0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Calibri"/>
              </a:rPr>
              <a:t>Nota: Los scripts de MATLAB de los ejemplos 6 y 7 usando están claramente poco optimizados dado que se usan bucles, cuyo recorrido puede ser muy largo si N es alto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Calibri"/>
              </a:rPr>
              <a:t>Cuestión 1: ¿Cómo mejorar los scripts de los ejemplos 6 y 7?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Calibri"/>
              </a:rPr>
              <a:t>Cuestión 2: ¿Cómo generaría aleatoriamente números enteros con distribución uniforme en [a,b]?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709560" y="744480"/>
            <a:ext cx="5378400" cy="372276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566280" y="4885920"/>
            <a:ext cx="5877000" cy="457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just"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Slide Number Placeholder 3"/>
          <p:cNvSpPr/>
          <p:nvPr/>
        </p:nvSpPr>
        <p:spPr>
          <a:xfrm>
            <a:off x="5665680" y="9693360"/>
            <a:ext cx="113040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E68BD-A78F-47FC-A235-3085E2198AD8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709560" y="744480"/>
            <a:ext cx="5378400" cy="372276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566280" y="4885920"/>
            <a:ext cx="5877000" cy="45752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 algn="just"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Calibri"/>
              </a:rPr>
              <a:t>El método data del Proyecto Manhattan en los 1940’s y se llama así por la ciudad de Monte Carlo (por los casinos)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Calibri"/>
              </a:rPr>
              <a:t>Como suelen decir muchos, suena más romántico el “Método de Monte Carlo” que el “Método de Las Vegas”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709560" y="744480"/>
            <a:ext cx="5378400" cy="372276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66280" y="4885920"/>
            <a:ext cx="5877000" cy="45752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 algn="just"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Calibri"/>
              </a:rPr>
              <a:t>¿Cómo resolver integrales tirando piedras?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Calibri"/>
              </a:rPr>
              <a:t>Es difícil creer que las técnicas de Monte Carlo puedan usarse para evaluar integrales. Después de todo, no queremos hacer apuestas sobre su valor, como si éste fuera fruto del azar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Calibri"/>
              </a:rPr>
              <a:t>Es cierto que existen otros métodos de integración mejores que Monte Carlo para integrales simples y dobles, pero cuando la dimensionalidad de la integral se hace alta, las técnicas de Monte Carlo son las mejores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709560" y="744480"/>
            <a:ext cx="5378400" cy="372276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566280" y="4885920"/>
            <a:ext cx="5877000" cy="45752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 algn="just"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Calibri"/>
              </a:rPr>
              <a:t>Es difícil creer que las técnicas de Monte Carlo puedan usarse para evaluar integrales. Después de todo, no queremos hacer apuestas sobre su valor, como si éste fuera fruto del azar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Calibri"/>
              </a:rPr>
              <a:t>Es cierto que existen otros métodos de integración mejores que Monte Carlo para integrales simples y dobles, pero cuando la dimensionalidad de la integral se hace alta, las técnicas de Monte Carlo son las mejores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Calibri"/>
              </a:rPr>
              <a:t>Existen muchas variaciones del método de integración numérica para evaluar funciones con varianza alta (von Neumann y muchos otros métodos), pero su estudio va más allá del propósito de la asignatura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7000" y="836280"/>
            <a:ext cx="9209160" cy="66348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87000" y="1785960"/>
            <a:ext cx="9209160" cy="21805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14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87000" y="4174200"/>
            <a:ext cx="9209160" cy="21805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14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7000" y="836280"/>
            <a:ext cx="9209160" cy="66348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7000" y="1785960"/>
            <a:ext cx="4493880" cy="21805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14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05880" y="1785960"/>
            <a:ext cx="4493880" cy="21805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14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387000" y="4174200"/>
            <a:ext cx="4493880" cy="21805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14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105880" y="4174200"/>
            <a:ext cx="4493880" cy="21805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14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7000" y="836280"/>
            <a:ext cx="9209160" cy="66348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7000" y="1785960"/>
            <a:ext cx="2964960" cy="21805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14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500640" y="1785960"/>
            <a:ext cx="2964960" cy="21805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14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614280" y="1785960"/>
            <a:ext cx="2964960" cy="21805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14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387000" y="4174200"/>
            <a:ext cx="2964960" cy="21805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14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500640" y="4174200"/>
            <a:ext cx="2964960" cy="21805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14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614280" y="4174200"/>
            <a:ext cx="2964960" cy="21805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14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87000" y="836280"/>
            <a:ext cx="9209160" cy="66348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387000" y="1785960"/>
            <a:ext cx="92091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4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7000" y="836280"/>
            <a:ext cx="9209160" cy="66348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7000" y="1785960"/>
            <a:ext cx="9209160" cy="4572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14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87000" y="836280"/>
            <a:ext cx="9209160" cy="66348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7000" y="1785960"/>
            <a:ext cx="4493880" cy="4572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14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05880" y="1785960"/>
            <a:ext cx="4493880" cy="4572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14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7000" y="836280"/>
            <a:ext cx="9209160" cy="66348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387000" y="836280"/>
            <a:ext cx="9209160" cy="30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4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7000" y="836280"/>
            <a:ext cx="9209160" cy="66348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7000" y="1785960"/>
            <a:ext cx="4493880" cy="21805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14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05880" y="1785960"/>
            <a:ext cx="4493880" cy="4572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14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7000" y="4174200"/>
            <a:ext cx="4493880" cy="21805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14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7000" y="836280"/>
            <a:ext cx="9209160" cy="66348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7000" y="1785960"/>
            <a:ext cx="4493880" cy="4572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14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05880" y="1785960"/>
            <a:ext cx="4493880" cy="21805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14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105880" y="4174200"/>
            <a:ext cx="4493880" cy="21805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14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87000" y="836280"/>
            <a:ext cx="9209160" cy="66348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7000" y="1785960"/>
            <a:ext cx="4493880" cy="21805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14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05880" y="1785960"/>
            <a:ext cx="4493880" cy="21805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14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87000" y="4174200"/>
            <a:ext cx="9209160" cy="21805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14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6"/>
          <p:cNvGrpSpPr/>
          <p:nvPr/>
        </p:nvGrpSpPr>
        <p:grpSpPr>
          <a:xfrm>
            <a:off x="6480" y="6572160"/>
            <a:ext cx="9899640" cy="287280"/>
            <a:chOff x="6480" y="6572160"/>
            <a:chExt cx="9899640" cy="287280"/>
          </a:xfrm>
        </p:grpSpPr>
        <p:pic>
          <p:nvPicPr>
            <p:cNvPr id="1" name="Picture 16" descr=""/>
            <p:cNvPicPr/>
            <p:nvPr/>
          </p:nvPicPr>
          <p:blipFill>
            <a:blip r:embed="rId2"/>
            <a:stretch/>
          </p:blipFill>
          <p:spPr>
            <a:xfrm>
              <a:off x="3312360" y="6572160"/>
              <a:ext cx="3312000" cy="28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Picture 16" descr=""/>
            <p:cNvPicPr/>
            <p:nvPr/>
          </p:nvPicPr>
          <p:blipFill>
            <a:blip r:embed="rId3"/>
            <a:stretch/>
          </p:blipFill>
          <p:spPr>
            <a:xfrm>
              <a:off x="6594120" y="6572160"/>
              <a:ext cx="3312000" cy="28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" name="Picture 16" descr=""/>
            <p:cNvPicPr/>
            <p:nvPr/>
          </p:nvPicPr>
          <p:blipFill>
            <a:blip r:embed="rId4"/>
            <a:stretch/>
          </p:blipFill>
          <p:spPr>
            <a:xfrm>
              <a:off x="6480" y="6572160"/>
              <a:ext cx="3312000" cy="287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" name="Group 25"/>
          <p:cNvGrpSpPr/>
          <p:nvPr/>
        </p:nvGrpSpPr>
        <p:grpSpPr>
          <a:xfrm>
            <a:off x="3240" y="0"/>
            <a:ext cx="9899640" cy="576360"/>
            <a:chOff x="3240" y="0"/>
            <a:chExt cx="9899640" cy="576360"/>
          </a:xfrm>
        </p:grpSpPr>
        <p:pic>
          <p:nvPicPr>
            <p:cNvPr id="5" name="Picture 16" descr=""/>
            <p:cNvPicPr/>
            <p:nvPr/>
          </p:nvPicPr>
          <p:blipFill>
            <a:blip r:embed="rId5"/>
            <a:stretch/>
          </p:blipFill>
          <p:spPr>
            <a:xfrm>
              <a:off x="3305160" y="0"/>
              <a:ext cx="3314160" cy="57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" name="Picture 16" descr=""/>
            <p:cNvPicPr/>
            <p:nvPr/>
          </p:nvPicPr>
          <p:blipFill>
            <a:blip r:embed="rId6"/>
            <a:stretch/>
          </p:blipFill>
          <p:spPr>
            <a:xfrm>
              <a:off x="6588720" y="0"/>
              <a:ext cx="3314160" cy="57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" name="Picture 16" descr=""/>
            <p:cNvPicPr/>
            <p:nvPr/>
          </p:nvPicPr>
          <p:blipFill>
            <a:blip r:embed="rId7"/>
            <a:stretch/>
          </p:blipFill>
          <p:spPr>
            <a:xfrm>
              <a:off x="3240" y="0"/>
              <a:ext cx="3314160" cy="576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" name="Footer Placeholder 6"/>
          <p:cNvSpPr/>
          <p:nvPr/>
        </p:nvSpPr>
        <p:spPr>
          <a:xfrm>
            <a:off x="6321600" y="6588000"/>
            <a:ext cx="35845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2060"/>
                </a:solidFill>
                <a:latin typeface="Calibri"/>
              </a:rPr>
              <a:t>Métodos Numéricos y de Simulación – Curso 2010/11</a:t>
            </a:r>
            <a:endParaRPr b="0" lang="en-US" sz="12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pic>
        <p:nvPicPr>
          <p:cNvPr id="9" name="Picture 10" descr=""/>
          <p:cNvPicPr/>
          <p:nvPr/>
        </p:nvPicPr>
        <p:blipFill>
          <a:blip r:embed="rId8"/>
          <a:stretch/>
        </p:blipFill>
        <p:spPr>
          <a:xfrm>
            <a:off x="0" y="6578640"/>
            <a:ext cx="334800" cy="279360"/>
          </a:xfrm>
          <a:prstGeom prst="rect">
            <a:avLst/>
          </a:prstGeom>
          <a:ln w="0">
            <a:noFill/>
          </a:ln>
        </p:spPr>
      </p:pic>
      <p:sp>
        <p:nvSpPr>
          <p:cNvPr id="10" name="PlaceHolder 1"/>
          <p:cNvSpPr>
            <a:spLocks noGrp="1"/>
          </p:cNvSpPr>
          <p:nvPr>
            <p:ph type="body"/>
          </p:nvPr>
        </p:nvSpPr>
        <p:spPr>
          <a:xfrm>
            <a:off x="387000" y="1785960"/>
            <a:ext cx="9209160" cy="4572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marL="336600" indent="-3366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73200" indent="-336600">
              <a:spcBef>
                <a:spcPts val="1412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12680" indent="-336240">
              <a:spcBef>
                <a:spcPts val="1412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349280" indent="-336600">
              <a:spcBef>
                <a:spcPts val="1412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1687680" indent="-336600">
              <a:spcBef>
                <a:spcPts val="1412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1687680" indent="-336600">
              <a:spcBef>
                <a:spcPts val="1412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1687680" indent="-336600">
              <a:spcBef>
                <a:spcPts val="1412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title"/>
          </p:nvPr>
        </p:nvSpPr>
        <p:spPr>
          <a:xfrm>
            <a:off x="387000" y="836280"/>
            <a:ext cx="9209160" cy="66348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Straight Connector 8"/>
          <p:cNvSpPr/>
          <p:nvPr/>
        </p:nvSpPr>
        <p:spPr>
          <a:xfrm>
            <a:off x="0" y="571680"/>
            <a:ext cx="9906120" cy="1440"/>
          </a:xfrm>
          <a:prstGeom prst="line">
            <a:avLst/>
          </a:prstGeom>
          <a:ln w="31680">
            <a:solidFill>
              <a:srgbClr val="b46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13" name="Straight Connector 9"/>
          <p:cNvSpPr/>
          <p:nvPr/>
        </p:nvSpPr>
        <p:spPr>
          <a:xfrm>
            <a:off x="0" y="641520"/>
            <a:ext cx="9906120" cy="1440"/>
          </a:xfrm>
          <a:prstGeom prst="line">
            <a:avLst/>
          </a:prstGeom>
          <a:ln w="127080">
            <a:solidFill>
              <a:srgbClr val="e090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14" name="Straight Connector 11"/>
          <p:cNvSpPr/>
          <p:nvPr/>
        </p:nvSpPr>
        <p:spPr>
          <a:xfrm>
            <a:off x="0" y="6529320"/>
            <a:ext cx="9906120" cy="1800"/>
          </a:xfrm>
          <a:prstGeom prst="line">
            <a:avLst/>
          </a:prstGeom>
          <a:ln w="63360">
            <a:solidFill>
              <a:srgbClr val="e090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15" name="Straight Connector 12"/>
          <p:cNvSpPr/>
          <p:nvPr/>
        </p:nvSpPr>
        <p:spPr>
          <a:xfrm>
            <a:off x="0" y="6570720"/>
            <a:ext cx="9906120" cy="1440"/>
          </a:xfrm>
          <a:prstGeom prst="line">
            <a:avLst/>
          </a:prstGeom>
          <a:ln w="31680">
            <a:solidFill>
              <a:srgbClr val="b46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grpSp>
        <p:nvGrpSpPr>
          <p:cNvPr id="16" name="Group 20"/>
          <p:cNvGrpSpPr/>
          <p:nvPr/>
        </p:nvGrpSpPr>
        <p:grpSpPr>
          <a:xfrm>
            <a:off x="452520" y="622440"/>
            <a:ext cx="857160" cy="142560"/>
            <a:chOff x="452520" y="622440"/>
            <a:chExt cx="857160" cy="142560"/>
          </a:xfrm>
        </p:grpSpPr>
        <p:sp>
          <p:nvSpPr>
            <p:cNvPr id="17" name="Oval 17"/>
            <p:cNvSpPr/>
            <p:nvPr/>
          </p:nvSpPr>
          <p:spPr>
            <a:xfrm>
              <a:off x="452520" y="622440"/>
              <a:ext cx="142560" cy="142560"/>
            </a:xfrm>
            <a:prstGeom prst="ellipse">
              <a:avLst/>
            </a:prstGeom>
            <a:solidFill>
              <a:srgbClr val="92d050"/>
            </a:solidFill>
            <a:ln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 u="sng">
                <a:solidFill>
                  <a:srgbClr val="000000"/>
                </a:solidFill>
                <a:uFillTx/>
                <a:latin typeface="Calibri"/>
              </a:endParaRPr>
            </a:p>
          </p:txBody>
        </p:sp>
        <p:sp>
          <p:nvSpPr>
            <p:cNvPr id="18" name="Oval 18"/>
            <p:cNvSpPr/>
            <p:nvPr/>
          </p:nvSpPr>
          <p:spPr>
            <a:xfrm>
              <a:off x="809640" y="622440"/>
              <a:ext cx="142920" cy="142560"/>
            </a:xfrm>
            <a:prstGeom prst="ellipse">
              <a:avLst/>
            </a:prstGeom>
            <a:solidFill>
              <a:srgbClr val="92d050"/>
            </a:solidFill>
            <a:ln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 u="sng">
                <a:solidFill>
                  <a:srgbClr val="000000"/>
                </a:solidFill>
                <a:uFillTx/>
                <a:latin typeface="Calibri"/>
              </a:endParaRPr>
            </a:p>
          </p:txBody>
        </p:sp>
        <p:sp>
          <p:nvSpPr>
            <p:cNvPr id="19" name="Oval 19"/>
            <p:cNvSpPr/>
            <p:nvPr/>
          </p:nvSpPr>
          <p:spPr>
            <a:xfrm>
              <a:off x="1166760" y="622440"/>
              <a:ext cx="142920" cy="142560"/>
            </a:xfrm>
            <a:prstGeom prst="ellipse">
              <a:avLst/>
            </a:prstGeom>
            <a:solidFill>
              <a:srgbClr val="92d050"/>
            </a:solidFill>
            <a:ln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 u="sng">
                <a:solidFill>
                  <a:srgbClr val="000000"/>
                </a:solidFill>
                <a:uFillTx/>
                <a:latin typeface="Calibri"/>
              </a:endParaRPr>
            </a:p>
          </p:txBody>
        </p:sp>
      </p:grpSp>
      <p:sp>
        <p:nvSpPr>
          <p:cNvPr id="20" name="Footer Placeholder 6"/>
          <p:cNvSpPr/>
          <p:nvPr/>
        </p:nvSpPr>
        <p:spPr>
          <a:xfrm>
            <a:off x="344520" y="6588000"/>
            <a:ext cx="40323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2060"/>
                </a:solidFill>
                <a:latin typeface="Calibri"/>
              </a:rPr>
              <a:t>Rocío del Río – Dpto. Electrónica y Electromagnetismo (US)</a:t>
            </a:r>
            <a:endParaRPr b="0" lang="en-US" sz="12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physics.orst.edu/~rubin/" TargetMode="External"/><Relationship Id="rId2" Type="http://schemas.openxmlformats.org/officeDocument/2006/relationships/hyperlink" Target="http://www-teaching.physics.ox.ac.uk/computing/NumericalMethods/NMfP.pdf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1413000"/>
            <a:ext cx="9906120" cy="29527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200" spc="-1" strike="noStrike">
                <a:solidFill>
                  <a:srgbClr val="000000"/>
                </a:solidFill>
                <a:latin typeface="Calibri"/>
              </a:rPr>
              <a:t>TEMA 4</a:t>
            </a:r>
            <a:br>
              <a:rPr sz="5200"/>
            </a:br>
            <a:r>
              <a:rPr b="1" lang="es-ES" sz="5200" spc="-1" strike="noStrike">
                <a:solidFill>
                  <a:srgbClr val="c00000"/>
                </a:solidFill>
                <a:latin typeface="Calibri"/>
              </a:rPr>
              <a:t>NÚMEROS ALEATORIOS Y</a:t>
            </a:r>
            <a:br>
              <a:rPr sz="5200"/>
            </a:br>
            <a:r>
              <a:rPr b="1" lang="es-ES" sz="5200" spc="-1" strike="noStrike">
                <a:solidFill>
                  <a:srgbClr val="c00000"/>
                </a:solidFill>
                <a:latin typeface="Calibri"/>
              </a:rPr>
              <a:t>MÉTODOS DE MONTE CARLO</a:t>
            </a:r>
            <a:endParaRPr b="1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-360" y="4652640"/>
            <a:ext cx="9906120" cy="86364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Rocío del Río Fernández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Dpto. Electrónica y Electromagnetism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Métodos Numéricos y de Simulación</a:t>
            </a: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14" descr=""/>
          <p:cNvPicPr/>
          <p:nvPr/>
        </p:nvPicPr>
        <p:blipFill>
          <a:blip r:embed="rId1"/>
          <a:stretch/>
        </p:blipFill>
        <p:spPr>
          <a:xfrm>
            <a:off x="635040" y="3500280"/>
            <a:ext cx="8640720" cy="292608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200160" y="1642680"/>
            <a:ext cx="4464000" cy="17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6600" indent="0">
              <a:spcBef>
                <a:spcPts val="14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Números reales aleatorios con distribución normal de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 media 0 y desviación estándar 1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6600" indent="0">
              <a:lnSpc>
                <a:spcPct val="100000"/>
              </a:lnSpc>
              <a:spcBef>
                <a:spcPts val="14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&gt;&gt; randn(1,1e5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Footer Placeholder 6"/>
          <p:cNvSpPr/>
          <p:nvPr/>
        </p:nvSpPr>
        <p:spPr>
          <a:xfrm>
            <a:off x="5089680" y="101520"/>
            <a:ext cx="47210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Funciones de MATLAB</a:t>
            </a: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122" name="Title 4"/>
          <p:cNvSpPr/>
          <p:nvPr/>
        </p:nvSpPr>
        <p:spPr>
          <a:xfrm>
            <a:off x="387360" y="836640"/>
            <a:ext cx="920916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Desplazamiento de Distribuciones Normales</a:t>
            </a:r>
            <a:endParaRPr b="0" lang="en-US" sz="36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123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Métodos Aleatorios</a:t>
            </a: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pic>
        <p:nvPicPr>
          <p:cNvPr id="124" name="Picture 6" descr=""/>
          <p:cNvPicPr/>
          <p:nvPr/>
        </p:nvPicPr>
        <p:blipFill>
          <a:blip r:embed="rId2"/>
          <a:stretch/>
        </p:blipFill>
        <p:spPr>
          <a:xfrm>
            <a:off x="6634080" y="3627360"/>
            <a:ext cx="649440" cy="57960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3"/>
          <p:cNvSpPr/>
          <p:nvPr/>
        </p:nvSpPr>
        <p:spPr>
          <a:xfrm>
            <a:off x="5711760" y="4132440"/>
            <a:ext cx="24940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6600" indent="-336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Calibri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Calibri"/>
              </a:rPr>
              <a:t>EJEMPLO_04.m</a:t>
            </a: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126" name="Rectangle 3"/>
          <p:cNvSpPr/>
          <p:nvPr/>
        </p:nvSpPr>
        <p:spPr>
          <a:xfrm>
            <a:off x="4737240" y="1628640"/>
            <a:ext cx="49687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6600" indent="-336600">
              <a:spcBef>
                <a:spcPts val="14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Números reales aleatorios con distribución normal de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 media </a:t>
            </a:r>
            <a:r>
              <a:rPr b="1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 desviación estándar </a:t>
            </a:r>
            <a:r>
              <a:rPr b="1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336600" indent="-336600">
              <a:lnSpc>
                <a:spcPct val="100000"/>
              </a:lnSpc>
              <a:spcBef>
                <a:spcPts val="14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&gt;&gt; </a:t>
            </a:r>
            <a:r>
              <a:rPr b="1" lang="es-ES" sz="2400" spc="-1" strike="noStrike">
                <a:solidFill>
                  <a:srgbClr val="c00000"/>
                </a:solidFill>
                <a:latin typeface="Courier New"/>
              </a:rPr>
              <a:t>mu+sigma*randn(1,1e5)</a:t>
            </a:r>
            <a:endParaRPr b="0" lang="en-US" sz="24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127" name="AutoShape 11"/>
          <p:cNvSpPr/>
          <p:nvPr/>
        </p:nvSpPr>
        <p:spPr>
          <a:xfrm>
            <a:off x="6173640" y="4581360"/>
            <a:ext cx="1800360" cy="432000"/>
          </a:xfrm>
          <a:prstGeom prst="rightArrow">
            <a:avLst>
              <a:gd name="adj1" fmla="val 50000"/>
              <a:gd name="adj2" fmla="val 104188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128" name="Rectangle 3"/>
          <p:cNvSpPr/>
          <p:nvPr/>
        </p:nvSpPr>
        <p:spPr>
          <a:xfrm>
            <a:off x="6176880" y="5084640"/>
            <a:ext cx="1728720" cy="648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36600" indent="-336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urier New"/>
              </a:rPr>
              <a:t>mu = 5</a:t>
            </a:r>
            <a:endParaRPr b="0" lang="en-US" sz="18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336600" indent="-336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urier New"/>
              </a:rPr>
              <a:t>sigma = 0.2</a:t>
            </a:r>
            <a:endParaRPr b="0" lang="en-US" sz="1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387000" y="1642680"/>
            <a:ext cx="9102600" cy="156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75760" indent="-27576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Genera números reales aleatorios de acuerdo a distribuciones especificadas.</a:t>
            </a:r>
            <a:br>
              <a:rPr sz="2400"/>
            </a:b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ES" sz="2400" spc="-1" strike="noStrike">
                <a:solidFill>
                  <a:srgbClr val="c00000"/>
                </a:solidFill>
                <a:latin typeface="Courier New"/>
              </a:rPr>
              <a:t>random(NAME,A,B,C,M,N)</a:t>
            </a:r>
            <a:r>
              <a:rPr b="0" lang="es-E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Matriz MxN con distribución</a:t>
            </a: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          NAME y parámetros A, B,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Footer Placeholder 6"/>
          <p:cNvSpPr/>
          <p:nvPr/>
        </p:nvSpPr>
        <p:spPr>
          <a:xfrm>
            <a:off x="5089680" y="101520"/>
            <a:ext cx="47210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Funciones de MATLAB</a:t>
            </a: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131" name="Title 4"/>
          <p:cNvSpPr/>
          <p:nvPr/>
        </p:nvSpPr>
        <p:spPr>
          <a:xfrm>
            <a:off x="0" y="836640"/>
            <a:ext cx="990612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Función </a:t>
            </a:r>
            <a:r>
              <a:rPr b="1" lang="es-ES" sz="3600" spc="-1" strike="noStrike">
                <a:solidFill>
                  <a:srgbClr val="000000"/>
                </a:solidFill>
                <a:latin typeface="Courier New"/>
              </a:rPr>
              <a:t>random</a:t>
            </a:r>
            <a:endParaRPr b="0" lang="en-US" sz="36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132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Métodos Aleatorios</a:t>
            </a: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344520" y="2997360"/>
            <a:ext cx="5095800" cy="34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6600" indent="-336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&gt;&gt; </a:t>
            </a:r>
            <a:r>
              <a:rPr b="1" sz="1400" spc="-1" strike="noStrike">
                <a:solidFill>
                  <a:srgbClr val="c00000"/>
                </a:solidFill>
                <a:latin typeface="Courier New"/>
              </a:rPr>
              <a:t>help random</a:t>
            </a:r>
            <a:endParaRPr b="0" lang="en-US" sz="14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336600" indent="-336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4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336600" indent="-336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NAME can be:</a:t>
            </a:r>
            <a:endParaRPr b="0" lang="en-US" sz="14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336600" indent="-336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'beta'  or 'Beta',</a:t>
            </a:r>
            <a:endParaRPr b="0" lang="en-US" sz="14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336600" indent="-336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sz="1400" spc="-1" strike="noStrike">
                <a:solidFill>
                  <a:srgbClr val="c00000"/>
                </a:solidFill>
                <a:latin typeface="Courier New"/>
              </a:rPr>
              <a:t>'bino'  or 'Binomial',</a:t>
            </a:r>
            <a:endParaRPr b="0" lang="en-US" sz="14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336600" indent="-336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c00000"/>
                </a:solidFill>
                <a:latin typeface="Courier New"/>
              </a:rPr>
              <a:t>       </a:t>
            </a:r>
            <a:r>
              <a:rPr b="1" sz="1400" spc="-1" strike="noStrike">
                <a:solidFill>
                  <a:srgbClr val="c00000"/>
                </a:solidFill>
                <a:latin typeface="Courier New"/>
              </a:rPr>
              <a:t>'chi2'  or 'Chisquare',</a:t>
            </a:r>
            <a:endParaRPr b="0" lang="en-US" sz="14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336600" indent="-336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c00000"/>
                </a:solidFill>
                <a:latin typeface="Courier New"/>
              </a:rPr>
              <a:t>       </a:t>
            </a:r>
            <a:r>
              <a:rPr b="1" sz="1400" spc="-1" strike="noStrike">
                <a:solidFill>
                  <a:srgbClr val="c00000"/>
                </a:solidFill>
                <a:latin typeface="Courier New"/>
              </a:rPr>
              <a:t>'exp'   or 'Exponential',</a:t>
            </a:r>
            <a:endParaRPr b="0" lang="en-US" sz="14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336600" indent="-336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'ev'    or 'Extreme Value',</a:t>
            </a:r>
            <a:endParaRPr b="0" lang="en-US" sz="14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336600" indent="-336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'f'     or 'F',</a:t>
            </a:r>
            <a:endParaRPr b="0" lang="en-US" sz="14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336600" indent="-336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'gam'   or 'Gamma',</a:t>
            </a:r>
            <a:endParaRPr b="0" lang="en-US" sz="14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336600" indent="-336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'gev'   or 'Generalized Extreme Value',</a:t>
            </a:r>
            <a:endParaRPr b="0" lang="en-US" sz="14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336600" indent="-336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'gp'    or 'Generalized Pareto',</a:t>
            </a:r>
            <a:endParaRPr b="0" lang="en-US" sz="14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336600" indent="-336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'geo'   or 'Geometric',</a:t>
            </a:r>
            <a:endParaRPr b="0" lang="en-US" sz="14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336600" indent="-336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'hyge'  or 'Hypergeometric',</a:t>
            </a:r>
            <a:endParaRPr b="0" lang="en-US" sz="14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336600" indent="-336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'logn'  or 'Lognormal',</a:t>
            </a:r>
            <a:endParaRPr b="0" lang="en-US" sz="14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336600" indent="-336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'nbin'  or 'Negative Binomial',</a:t>
            </a:r>
            <a:endParaRPr b="0" lang="en-US" sz="14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336600" indent="-336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134" name="Rectangle 3"/>
          <p:cNvSpPr/>
          <p:nvPr/>
        </p:nvSpPr>
        <p:spPr>
          <a:xfrm>
            <a:off x="4830840" y="4062240"/>
            <a:ext cx="5095800" cy="24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6600" indent="-336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'nbin'  or 'Negative Binomial',</a:t>
            </a:r>
            <a:endParaRPr b="0" lang="en-US" sz="14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336600" indent="-336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'ncf'   or 'Noncentral F',</a:t>
            </a:r>
            <a:endParaRPr b="0" lang="en-US" sz="14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336600" indent="-336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'nct'   or 'Noncentral t',</a:t>
            </a:r>
            <a:endParaRPr b="0" lang="en-US" sz="14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336600" indent="-336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'ncx2'  or 'Noncentral Chi-square',</a:t>
            </a:r>
            <a:endParaRPr b="0" lang="en-US" sz="14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336600" indent="-336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sz="1400" spc="-1" strike="noStrike">
                <a:solidFill>
                  <a:srgbClr val="c00000"/>
                </a:solidFill>
                <a:latin typeface="Courier New"/>
              </a:rPr>
              <a:t>'norm'  or 'Normal',</a:t>
            </a:r>
            <a:endParaRPr b="0" lang="en-US" sz="14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336600" indent="-336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c00000"/>
                </a:solidFill>
                <a:latin typeface="Courier New"/>
              </a:rPr>
              <a:t>       </a:t>
            </a:r>
            <a:r>
              <a:rPr b="1" sz="1400" spc="-1" strike="noStrike">
                <a:solidFill>
                  <a:srgbClr val="c00000"/>
                </a:solidFill>
                <a:latin typeface="Courier New"/>
              </a:rPr>
              <a:t>'poiss' or 'Poisson',</a:t>
            </a:r>
            <a:endParaRPr b="0" lang="en-US" sz="14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336600" indent="-336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c00000"/>
                </a:solidFill>
                <a:latin typeface="Courier New"/>
              </a:rPr>
              <a:t>       </a:t>
            </a:r>
            <a:r>
              <a:rPr b="1" sz="1400" spc="-1" strike="noStrike">
                <a:solidFill>
                  <a:srgbClr val="c00000"/>
                </a:solidFill>
                <a:latin typeface="Courier New"/>
              </a:rPr>
              <a:t>'rayl'  or 'Rayleigh',</a:t>
            </a:r>
            <a:endParaRPr b="0" lang="en-US" sz="14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336600" indent="-336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't'     or 'T',</a:t>
            </a:r>
            <a:endParaRPr b="0" lang="en-US" sz="14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336600" indent="-336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sz="1400" spc="-1" strike="noStrike">
                <a:solidFill>
                  <a:srgbClr val="c00000"/>
                </a:solidFill>
                <a:latin typeface="Courier New"/>
              </a:rPr>
              <a:t>'unif'  or 'Uniform',</a:t>
            </a:r>
            <a:endParaRPr b="0" lang="en-US" sz="14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336600" indent="-336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'unid'  or 'Discrete Uniform',</a:t>
            </a:r>
            <a:endParaRPr b="0" lang="en-US" sz="14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336600" indent="-336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'wbl'   or 'Weibull'.</a:t>
            </a:r>
            <a:endParaRPr b="0" lang="en-US" sz="14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Métodos Aleatorios</a:t>
            </a: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136" name="Rectangle 3"/>
          <p:cNvSpPr/>
          <p:nvPr/>
        </p:nvSpPr>
        <p:spPr>
          <a:xfrm>
            <a:off x="387360" y="1643040"/>
            <a:ext cx="9102600" cy="15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6600" indent="-3366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Realiza una permutación aleatoria de números enteros.</a:t>
            </a:r>
            <a:endParaRPr b="0" lang="en-US" sz="24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336600" indent="-336600">
              <a:lnSpc>
                <a:spcPct val="100000"/>
              </a:lnSpc>
              <a:spcBef>
                <a:spcPts val="14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00000"/>
                </a:solidFill>
                <a:latin typeface="Courier New"/>
              </a:rPr>
              <a:t>	</a:t>
            </a:r>
            <a:r>
              <a:rPr b="1" lang="es-ES" sz="2400" spc="-1" strike="noStrike">
                <a:solidFill>
                  <a:srgbClr val="c00000"/>
                </a:solidFill>
                <a:latin typeface="Courier New"/>
              </a:rPr>
              <a:t>	</a:t>
            </a:r>
            <a:r>
              <a:rPr b="1" lang="es-ES" sz="2400" spc="-1" strike="noStrike">
                <a:solidFill>
                  <a:srgbClr val="c00000"/>
                </a:solidFill>
                <a:latin typeface="Courier New"/>
              </a:rPr>
              <a:t>randperm(N)</a:t>
            </a:r>
            <a:r>
              <a:rPr b="0" lang="es-E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Permutación aleatoria de los enteros 1 a N.</a:t>
            </a:r>
            <a:endParaRPr b="0" lang="en-US" sz="24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336600" indent="-3366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Útil en la aleatorización de listas.</a:t>
            </a:r>
            <a:endParaRPr b="0" lang="en-US" sz="24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137" name="Footer Placeholder 6"/>
          <p:cNvSpPr/>
          <p:nvPr/>
        </p:nvSpPr>
        <p:spPr>
          <a:xfrm>
            <a:off x="5089680" y="101520"/>
            <a:ext cx="47210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Funciones de MATLAB</a:t>
            </a: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138" name="Title 4"/>
          <p:cNvSpPr/>
          <p:nvPr/>
        </p:nvSpPr>
        <p:spPr>
          <a:xfrm>
            <a:off x="0" y="836640"/>
            <a:ext cx="990612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Función </a:t>
            </a:r>
            <a:r>
              <a:rPr b="1" lang="es-ES" sz="3600" spc="-1" strike="noStrike">
                <a:solidFill>
                  <a:srgbClr val="000000"/>
                </a:solidFill>
                <a:latin typeface="Courier New"/>
              </a:rPr>
              <a:t>randperm</a:t>
            </a:r>
            <a:endParaRPr b="0" lang="en-US" sz="36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pic>
        <p:nvPicPr>
          <p:cNvPr id="139" name="Picture 32" descr=""/>
          <p:cNvPicPr/>
          <p:nvPr/>
        </p:nvPicPr>
        <p:blipFill>
          <a:blip r:embed="rId1"/>
          <a:stretch/>
        </p:blipFill>
        <p:spPr>
          <a:xfrm>
            <a:off x="919080" y="3500280"/>
            <a:ext cx="649440" cy="57960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3"/>
          <p:cNvSpPr/>
          <p:nvPr/>
        </p:nvSpPr>
        <p:spPr>
          <a:xfrm>
            <a:off x="487440" y="4005360"/>
            <a:ext cx="23763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6600" indent="-336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Calibri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Calibri"/>
              </a:rPr>
              <a:t>EJEMPLO_05.m</a:t>
            </a: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pic>
        <p:nvPicPr>
          <p:cNvPr id="141" name="Picture 34" descr=""/>
          <p:cNvPicPr/>
          <p:nvPr/>
        </p:nvPicPr>
        <p:blipFill>
          <a:blip r:embed="rId2"/>
          <a:stretch/>
        </p:blipFill>
        <p:spPr>
          <a:xfrm>
            <a:off x="919080" y="4608360"/>
            <a:ext cx="4249800" cy="14130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37" descr=""/>
          <p:cNvPicPr/>
          <p:nvPr/>
        </p:nvPicPr>
        <p:blipFill>
          <a:blip r:embed="rId3"/>
          <a:stretch/>
        </p:blipFill>
        <p:spPr>
          <a:xfrm>
            <a:off x="5745240" y="3860640"/>
            <a:ext cx="3529080" cy="2455920"/>
          </a:xfrm>
          <a:prstGeom prst="rect">
            <a:avLst/>
          </a:prstGeom>
          <a:ln w="0">
            <a:noFill/>
          </a:ln>
        </p:spPr>
      </p:pic>
      <p:sp>
        <p:nvSpPr>
          <p:cNvPr id="143" name="AutoShape 38"/>
          <p:cNvSpPr/>
          <p:nvPr/>
        </p:nvSpPr>
        <p:spPr>
          <a:xfrm>
            <a:off x="4303800" y="4797360"/>
            <a:ext cx="1800000" cy="432000"/>
          </a:xfrm>
          <a:prstGeom prst="rightArrow">
            <a:avLst>
              <a:gd name="adj1" fmla="val 50000"/>
              <a:gd name="adj2" fmla="val 1041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Métodos Aleatorios</a:t>
            </a: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145" name="Rectangle 3"/>
          <p:cNvSpPr/>
          <p:nvPr/>
        </p:nvSpPr>
        <p:spPr>
          <a:xfrm>
            <a:off x="387360" y="1643040"/>
            <a:ext cx="9245520" cy="15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6600" indent="-3366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Generación de N números naturales aleatorios con distribución uniforme en el intervalo [1,n].</a:t>
            </a:r>
            <a:br>
              <a:rPr sz="2400"/>
            </a:b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ES" sz="2400" spc="-1" strike="noStrike">
                <a:solidFill>
                  <a:srgbClr val="c00000"/>
                </a:solidFill>
                <a:latin typeface="Courier New"/>
              </a:rPr>
              <a:t>ceil(n*rand(N)+eps)</a:t>
            </a:r>
            <a:endParaRPr b="0" lang="en-US" sz="24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146" name="Footer Placeholder 6"/>
          <p:cNvSpPr/>
          <p:nvPr/>
        </p:nvSpPr>
        <p:spPr>
          <a:xfrm>
            <a:off x="5089680" y="101520"/>
            <a:ext cx="47210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Funciones de MATLAB</a:t>
            </a: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147" name="Title 4"/>
          <p:cNvSpPr/>
          <p:nvPr/>
        </p:nvSpPr>
        <p:spPr>
          <a:xfrm>
            <a:off x="0" y="836640"/>
            <a:ext cx="990612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Otros Ejemplos de Uso</a:t>
            </a:r>
            <a:endParaRPr b="0" lang="en-US" sz="36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pic>
        <p:nvPicPr>
          <p:cNvPr id="148" name="Picture 13" descr=""/>
          <p:cNvPicPr/>
          <p:nvPr/>
        </p:nvPicPr>
        <p:blipFill>
          <a:blip r:embed="rId1"/>
          <a:stretch/>
        </p:blipFill>
        <p:spPr>
          <a:xfrm>
            <a:off x="749160" y="3691080"/>
            <a:ext cx="3916440" cy="27414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4" descr=""/>
          <p:cNvPicPr/>
          <p:nvPr/>
        </p:nvPicPr>
        <p:blipFill>
          <a:blip r:embed="rId2"/>
          <a:stretch/>
        </p:blipFill>
        <p:spPr>
          <a:xfrm>
            <a:off x="5383080" y="3681360"/>
            <a:ext cx="3892680" cy="27511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5" descr=""/>
          <p:cNvPicPr/>
          <p:nvPr/>
        </p:nvPicPr>
        <p:blipFill>
          <a:blip r:embed="rId3"/>
          <a:stretch/>
        </p:blipFill>
        <p:spPr>
          <a:xfrm>
            <a:off x="738360" y="3110040"/>
            <a:ext cx="576000" cy="514080"/>
          </a:xfrm>
          <a:prstGeom prst="rect">
            <a:avLst/>
          </a:prstGeom>
          <a:ln w="0">
            <a:noFill/>
          </a:ln>
        </p:spPr>
      </p:pic>
      <p:sp>
        <p:nvSpPr>
          <p:cNvPr id="151" name="Rectangle 3"/>
          <p:cNvSpPr/>
          <p:nvPr/>
        </p:nvSpPr>
        <p:spPr>
          <a:xfrm>
            <a:off x="954000" y="3147840"/>
            <a:ext cx="2494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6600" indent="-336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Calibri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Calibri"/>
              </a:rPr>
              <a:t>EJEMPLO_06.m</a:t>
            </a: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pic>
        <p:nvPicPr>
          <p:cNvPr id="152" name="Picture 17" descr=""/>
          <p:cNvPicPr/>
          <p:nvPr/>
        </p:nvPicPr>
        <p:blipFill>
          <a:blip r:embed="rId4"/>
          <a:stretch/>
        </p:blipFill>
        <p:spPr>
          <a:xfrm>
            <a:off x="5326200" y="3105000"/>
            <a:ext cx="576000" cy="51444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3"/>
          <p:cNvSpPr/>
          <p:nvPr/>
        </p:nvSpPr>
        <p:spPr>
          <a:xfrm>
            <a:off x="5541840" y="3143160"/>
            <a:ext cx="2494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6600" indent="-336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Calibri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Calibri"/>
              </a:rPr>
              <a:t>EJEMPLO_07.m</a:t>
            </a: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Métodos Aleatorios</a:t>
            </a: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155" name="Rectangle 3"/>
          <p:cNvSpPr/>
          <p:nvPr/>
        </p:nvSpPr>
        <p:spPr>
          <a:xfrm>
            <a:off x="387360" y="1643040"/>
            <a:ext cx="9245520" cy="47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6600" indent="-3366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Los ordenadores son deterministas </a:t>
            </a:r>
            <a:r>
              <a:rPr b="0" lang="es-E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a las mismas entradas a un programa, las mismas salidas (salvo error).</a:t>
            </a:r>
            <a:endParaRPr b="0" lang="en-US" sz="24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lvl="1" marL="673200" indent="-336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¿Cómo pueden entonces generar números aleatorios?</a:t>
            </a: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lvl="1" marL="673200" indent="-336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¿Cómo de bien pueden hacerlo?</a:t>
            </a: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lvl="1" marL="673200" indent="-336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¿Para qué nos sirve esto?</a:t>
            </a: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336600" indent="-3366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Simulación de eventos aleatorios:</a:t>
            </a:r>
            <a:endParaRPr b="0" lang="en-US" sz="24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lvl="1" marL="673200" indent="-336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movimiento térmico</a:t>
            </a: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lvl="1" marL="673200" indent="-336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juegos de azar</a:t>
            </a: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lvl="1" marL="673200" indent="-336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desintegración radioactiva</a:t>
            </a: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lvl="1" marL="673200" indent="-336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solución estadística de ecuaciones</a:t>
            </a: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lvl="1" marL="673200" indent="-336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156" name="Footer Placeholder 6"/>
          <p:cNvSpPr/>
          <p:nvPr/>
        </p:nvSpPr>
        <p:spPr>
          <a:xfrm>
            <a:off x="4592520" y="101520"/>
            <a:ext cx="52182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Generadores pseudo-aleatorios</a:t>
            </a: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157" name="Title 4"/>
          <p:cNvSpPr/>
          <p:nvPr/>
        </p:nvSpPr>
        <p:spPr>
          <a:xfrm>
            <a:off x="0" y="836640"/>
            <a:ext cx="990612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¿Aleatoriedad Determinista?</a:t>
            </a:r>
            <a:endParaRPr b="0" lang="en-US" sz="36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Métodos Aleatorios</a:t>
            </a: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159" name="Rectangle 3"/>
          <p:cNvSpPr/>
          <p:nvPr/>
        </p:nvSpPr>
        <p:spPr>
          <a:xfrm>
            <a:off x="387360" y="1643040"/>
            <a:ext cx="9245520" cy="47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6600" indent="-3366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Los ordenadores son deterministas </a:t>
            </a:r>
            <a:r>
              <a:rPr b="0" lang="es-E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a las mismas entradas a un programa, las mismas salidas (salvo error).</a:t>
            </a:r>
            <a:endParaRPr b="0" lang="en-US" sz="24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lvl="1" marL="673200" indent="-336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¿Cómo pueden entonces generar números aleatorios?</a:t>
            </a: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lvl="2" marL="1012680" indent="-3362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Estrictamente hablando, no son capaces de generar secuencias aleatorias (sin correlación entre los números).</a:t>
            </a: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lvl="2" marL="1012680" indent="-3362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Si conocemos r</a:t>
            </a:r>
            <a:r>
              <a:rPr b="1" lang="es-ES" sz="20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, r</a:t>
            </a:r>
            <a:r>
              <a:rPr b="1" lang="es-ES" sz="2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, …, r</a:t>
            </a:r>
            <a:r>
              <a:rPr b="1" lang="es-ES" sz="2000" spc="-1" strike="noStrike" baseline="-25000">
                <a:solidFill>
                  <a:srgbClr val="000000"/>
                </a:solidFill>
                <a:latin typeface="Calibri"/>
              </a:rPr>
              <a:t>m</a:t>
            </a: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, siempre es posible determinar r</a:t>
            </a:r>
            <a:r>
              <a:rPr b="1" lang="es-ES" sz="2000" spc="-1" strike="noStrike" baseline="-25000">
                <a:solidFill>
                  <a:srgbClr val="000000"/>
                </a:solidFill>
                <a:latin typeface="Calibri"/>
              </a:rPr>
              <a:t>m+1</a:t>
            </a: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lvl="2" marL="1012680" indent="-3362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Realmente se generan </a:t>
            </a:r>
            <a:r>
              <a:rPr b="1" lang="es-ES" sz="2000" spc="-1" strike="noStrike">
                <a:solidFill>
                  <a:srgbClr val="c00000"/>
                </a:solidFill>
                <a:latin typeface="Calibri"/>
              </a:rPr>
              <a:t>secuencias pseudo-aleatorias</a:t>
            </a: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lvl="1" marL="673200" indent="-336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¿Cómo de bien pueden hacerlo?</a:t>
            </a: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lvl="2" marL="1012680" indent="-3362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Muy bien:</a:t>
            </a: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lvl="2" marL="1012680" indent="-3362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Baja correlación</a:t>
            </a: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lvl="2" marL="1012680" indent="-3362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Periodo de repetitividad alto</a:t>
            </a: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lvl="2" marL="1012680" indent="-3362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siempre que el generador sea bueno.</a:t>
            </a: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160" name="Footer Placeholder 6"/>
          <p:cNvSpPr/>
          <p:nvPr/>
        </p:nvSpPr>
        <p:spPr>
          <a:xfrm>
            <a:off x="4592520" y="101520"/>
            <a:ext cx="52182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Generadores pseudo-aleatorios</a:t>
            </a: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161" name="Title 4"/>
          <p:cNvSpPr/>
          <p:nvPr/>
        </p:nvSpPr>
        <p:spPr>
          <a:xfrm>
            <a:off x="0" y="836640"/>
            <a:ext cx="990612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Pseudo-Aleatoriedad</a:t>
            </a:r>
            <a:endParaRPr b="0" lang="en-US" sz="36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3"/>
          <p:cNvSpPr/>
          <p:nvPr/>
        </p:nvSpPr>
        <p:spPr>
          <a:xfrm>
            <a:off x="531720" y="1785960"/>
            <a:ext cx="9029880" cy="45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6600" indent="-3366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Es el método más común para generar secuencias de números pseudo-aleatorios con 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distribución uniforme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336600" indent="-3366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336600" indent="-3366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lvl="1" marL="673200" indent="-336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336600" indent="-3366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Genera 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números enteros en el intervalo [0,M-1]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a partir del resto del cociente (rem =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mainder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) de números grandes:</a:t>
            </a:r>
            <a:endParaRPr b="0" lang="en-US" sz="24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lvl="1" marL="673200" indent="-336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alibri"/>
              </a:rPr>
              <a:t>r1 = semilla (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seed</a:t>
            </a:r>
            <a:r>
              <a:rPr b="1" lang="es-ES" sz="2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, proporcionada por el usuario (o la máquina)</a:t>
            </a:r>
            <a:endParaRPr b="0" lang="en-US" sz="22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lvl="1" marL="673200" indent="-336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M = número muy grande (periodicidad máxima de la secuencia)</a:t>
            </a:r>
            <a:endParaRPr b="0" lang="en-US" sz="22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lvl="1" marL="673200" indent="-336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a = número grande; c = magia negra</a:t>
            </a:r>
            <a:endParaRPr b="0" lang="en-US" sz="22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163" name="Rectangle 8"/>
          <p:cNvSpPr/>
          <p:nvPr/>
        </p:nvSpPr>
        <p:spPr>
          <a:xfrm>
            <a:off x="2360520" y="2851200"/>
            <a:ext cx="489744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164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Métodos Aleatorios</a:t>
            </a: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165" name="Footer Placeholder 6"/>
          <p:cNvSpPr/>
          <p:nvPr/>
        </p:nvSpPr>
        <p:spPr>
          <a:xfrm>
            <a:off x="4592520" y="101520"/>
            <a:ext cx="52182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Generadores pseudo-aleatorios</a:t>
            </a: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166" name="Title 4"/>
          <p:cNvSpPr/>
          <p:nvPr/>
        </p:nvSpPr>
        <p:spPr>
          <a:xfrm>
            <a:off x="0" y="836640"/>
            <a:ext cx="990612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Generadores Congruentes Lineales</a:t>
            </a:r>
            <a:endParaRPr b="0" lang="en-US" sz="36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" name="Object 6"/>
              <p:cNvSpPr txBox="1"/>
              <p:nvPr/>
            </p:nvSpPr>
            <p:spPr>
              <a:xfrm>
                <a:off x="2505240" y="2924280"/>
                <a:ext cx="4703760" cy="93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≡</m:t>
                    </m:r>
                    <m:r>
                      <m:t xml:space="preserve">(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r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c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r>
                      <m:t xml:space="preserve">M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em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c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3"/>
          <p:cNvSpPr/>
          <p:nvPr/>
        </p:nvSpPr>
        <p:spPr>
          <a:xfrm>
            <a:off x="531720" y="1700280"/>
            <a:ext cx="9029880" cy="44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6600" indent="-336600">
              <a:spcBef>
                <a:spcPts val="14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 = (ar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Calibri"/>
              </a:rPr>
              <a:t>i-1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 + c)modM, con </a:t>
            </a:r>
            <a:r>
              <a:rPr b="1" lang="es-ES" sz="2400" spc="-1" strike="noStrike">
                <a:solidFill>
                  <a:srgbClr val="c00000"/>
                </a:solidFill>
                <a:latin typeface="Calibri"/>
              </a:rPr>
              <a:t>a = 57, c = 1, M = 256, r</a:t>
            </a:r>
            <a:r>
              <a:rPr b="1" lang="es-ES" sz="2400" spc="-1" strike="noStrike" baseline="-25000">
                <a:solidFill>
                  <a:srgbClr val="c00000"/>
                </a:solidFill>
                <a:latin typeface="Calibri"/>
              </a:rPr>
              <a:t>1 </a:t>
            </a:r>
            <a:r>
              <a:rPr b="1" lang="es-ES" sz="2400" spc="-1" strike="noStrike">
                <a:solidFill>
                  <a:srgbClr val="c00000"/>
                </a:solidFill>
                <a:latin typeface="Calibri"/>
              </a:rPr>
              <a:t>= 10</a:t>
            </a:r>
            <a:endParaRPr b="0" lang="en-US" sz="24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lvl="4" marL="1687680" indent="-3366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336600" indent="-3366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Secuencia pseudo-aleatoria en [0, M-1]:</a:t>
            </a:r>
            <a:endParaRPr b="0" lang="en-US" sz="24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lvl="1" marL="673200" indent="-336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Calibri"/>
              </a:rPr>
              <a:t>1 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= 10</a:t>
            </a: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lvl="1" marL="673200" indent="-336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Calibri"/>
              </a:rPr>
              <a:t>2 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= (57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10 + 1)mod256 = rem(571/256) = 59</a:t>
            </a: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lvl="1" marL="673200" indent="-336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Calibri"/>
              </a:rPr>
              <a:t>3 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= (57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59 + 1)mod256 = rem(3364/256) = 36</a:t>
            </a: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lvl="1" marL="673200" indent="-336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lvl="1" marL="673200" indent="-336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Calibri"/>
              </a:rPr>
              <a:t>257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= 10 </a:t>
            </a:r>
            <a:r>
              <a:rPr b="0" lang="es-E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Longitud de la secuencia (periodicidad M = 256)</a:t>
            </a: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336600" indent="-3366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Secuencia pseudo-aleatoria en [0, 1] </a:t>
            </a:r>
            <a:r>
              <a:rPr b="1" lang="es-E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 r/M</a:t>
            </a:r>
            <a:endParaRPr b="0" lang="en-US" sz="24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lvl="1" marL="673200" indent="-336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0.0391    0.2305    0.1406    0.0195    0.1172    0.6836    0.9688    0.2227 …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pero lógicamente con la misma periodicidad en la secuencia (M)</a:t>
            </a: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169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Métodos Aleatorios</a:t>
            </a: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170" name="Footer Placeholder 6"/>
          <p:cNvSpPr/>
          <p:nvPr/>
        </p:nvSpPr>
        <p:spPr>
          <a:xfrm>
            <a:off x="4592520" y="101520"/>
            <a:ext cx="52182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Generadores pseudo-aleatorios</a:t>
            </a: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171" name="Title 4"/>
          <p:cNvSpPr/>
          <p:nvPr/>
        </p:nvSpPr>
        <p:spPr>
          <a:xfrm>
            <a:off x="0" y="836640"/>
            <a:ext cx="990612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Ejemplo</a:t>
            </a:r>
            <a:endParaRPr b="0" lang="en-US" sz="36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3"/>
          <p:cNvSpPr/>
          <p:nvPr/>
        </p:nvSpPr>
        <p:spPr>
          <a:xfrm>
            <a:off x="992160" y="2386080"/>
            <a:ext cx="36734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6600" indent="-336600">
              <a:spcBef>
                <a:spcPts val="14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LCG con a = 57, c = 1, M = 256</a:t>
            </a:r>
            <a:br>
              <a:rPr sz="1800"/>
            </a:b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periodo 256</a:t>
            </a:r>
            <a:endParaRPr b="0" lang="en-US" sz="16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173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Métodos Aleatorios</a:t>
            </a: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174" name="Footer Placeholder 6"/>
          <p:cNvSpPr/>
          <p:nvPr/>
        </p:nvSpPr>
        <p:spPr>
          <a:xfrm>
            <a:off x="4592520" y="101520"/>
            <a:ext cx="52182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Generadores pseudo-aleatorios</a:t>
            </a: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175" name="Rectangle 3"/>
          <p:cNvSpPr/>
          <p:nvPr/>
        </p:nvSpPr>
        <p:spPr>
          <a:xfrm>
            <a:off x="4665600" y="2386080"/>
            <a:ext cx="496728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6600" indent="-336600">
              <a:spcBef>
                <a:spcPts val="14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MATLAB rand</a:t>
            </a:r>
            <a:br>
              <a:rPr sz="1800"/>
            </a:b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Algoritmo Mersenne Twister, periodo (2^19937-1)/2</a:t>
            </a:r>
            <a:endParaRPr b="0" lang="en-US" sz="16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176" name="Rectangle 3"/>
          <p:cNvSpPr/>
          <p:nvPr/>
        </p:nvSpPr>
        <p:spPr>
          <a:xfrm>
            <a:off x="272880" y="922320"/>
            <a:ext cx="92887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6600" indent="-3366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Una prueba simple para chequear una secuencia pseudo-aleatoria es utilizar el córtex visual para reconocer los patrones de correlación.</a:t>
            </a:r>
            <a:endParaRPr b="0" lang="en-US" sz="24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pic>
        <p:nvPicPr>
          <p:cNvPr id="177" name="Picture 10" descr=""/>
          <p:cNvPicPr/>
          <p:nvPr/>
        </p:nvPicPr>
        <p:blipFill>
          <a:blip r:embed="rId1"/>
          <a:stretch/>
        </p:blipFill>
        <p:spPr>
          <a:xfrm>
            <a:off x="2625840" y="1832040"/>
            <a:ext cx="576000" cy="514440"/>
          </a:xfrm>
          <a:prstGeom prst="rect">
            <a:avLst/>
          </a:prstGeom>
          <a:ln w="0">
            <a:noFill/>
          </a:ln>
        </p:spPr>
      </p:pic>
      <p:sp>
        <p:nvSpPr>
          <p:cNvPr id="178" name="Rectangle 3"/>
          <p:cNvSpPr/>
          <p:nvPr/>
        </p:nvSpPr>
        <p:spPr>
          <a:xfrm>
            <a:off x="2841480" y="1870200"/>
            <a:ext cx="33703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6600" indent="-336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Calibri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Calibri"/>
              </a:rPr>
              <a:t>EJEMPLO_08.m (N = 2000)</a:t>
            </a: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pic>
        <p:nvPicPr>
          <p:cNvPr id="179" name="Picture 12" descr=""/>
          <p:cNvPicPr/>
          <p:nvPr/>
        </p:nvPicPr>
        <p:blipFill>
          <a:blip r:embed="rId2"/>
          <a:stretch/>
        </p:blipFill>
        <p:spPr>
          <a:xfrm>
            <a:off x="1260360" y="3024360"/>
            <a:ext cx="73882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Métodos Aleatorios</a:t>
            </a: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181" name="Footer Placeholder 6"/>
          <p:cNvSpPr/>
          <p:nvPr/>
        </p:nvSpPr>
        <p:spPr>
          <a:xfrm>
            <a:off x="4592520" y="101520"/>
            <a:ext cx="52182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Generadores pseudo-aleatorios</a:t>
            </a: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182" name="Rectangle 3"/>
          <p:cNvSpPr/>
          <p:nvPr/>
        </p:nvSpPr>
        <p:spPr>
          <a:xfrm>
            <a:off x="272880" y="1557360"/>
            <a:ext cx="928872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1412"/>
              </a:spcBef>
              <a:buClr>
                <a:srgbClr val="33339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Mirar el listado de números generados.</a:t>
            </a:r>
            <a:endParaRPr b="0" lang="en-US" sz="24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457200" indent="-457200">
              <a:spcBef>
                <a:spcPts val="1412"/>
              </a:spcBef>
              <a:buClr>
                <a:srgbClr val="33339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Dibujar la gráfica de scattering r(i) frente i.</a:t>
            </a:r>
            <a:endParaRPr b="0" lang="en-US" sz="24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457200" indent="-457200">
              <a:spcBef>
                <a:spcPts val="1412"/>
              </a:spcBef>
              <a:buClr>
                <a:srgbClr val="33339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Evaluar el momento k-ésimo de la secuencia:</a:t>
            </a:r>
            <a:endParaRPr b="0" lang="en-US" sz="24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457200" indent="-4572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lvl="4" marL="1687680" indent="-336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6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lvl="1" marL="717480" indent="-380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Si se cumple la ecuación, la distribución es uniforme. Si las desviaciones varían como 1/sqrt(N), la distribución es además aleatoria.</a:t>
            </a: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457200" indent="-457200">
              <a:spcBef>
                <a:spcPts val="1412"/>
              </a:spcBef>
              <a:buClr>
                <a:srgbClr val="333399"/>
              </a:buClr>
              <a:buFont typeface="Calibri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Evaluar la correlación con vecinos próximos:</a:t>
            </a:r>
            <a:endParaRPr b="0" lang="en-US" sz="24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457200" indent="-457200">
              <a:spcBef>
                <a:spcPts val="1412"/>
              </a:spcBef>
              <a:buClr>
                <a:srgbClr val="333399"/>
              </a:buClr>
              <a:buFont typeface="Calibri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lvl="1" marL="717480" indent="-380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Si se cumple la ecuación, los números no están correlacionados. Si las desviaciones varían como 1/sqrt(N), la distribución es además aleatoria.</a:t>
            </a: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183" name="Title 4"/>
          <p:cNvSpPr/>
          <p:nvPr/>
        </p:nvSpPr>
        <p:spPr>
          <a:xfrm>
            <a:off x="0" y="836640"/>
            <a:ext cx="990612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Tests de Aleatoriedad y Uniformidad</a:t>
            </a:r>
            <a:endParaRPr b="0" lang="en-US" sz="36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Object 11"/>
              <p:cNvSpPr txBox="1"/>
              <p:nvPr/>
            </p:nvSpPr>
            <p:spPr>
              <a:xfrm>
                <a:off x="2757600" y="3166920"/>
                <a:ext cx="4395600" cy="69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k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k</m:t>
                            </m:r>
                          </m:sup>
                        </m:sSubSup>
                      </m:e>
                    </m:nary>
                    <m:r>
                      <m:t xml:space="preserve">≃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k</m:t>
                            </m:r>
                          </m:sup>
                        </m:sSup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+</m:t>
                    </m:r>
                    <m:r>
                      <m:t xml:space="preserve">Θ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N</m:t>
                                </m:r>
                              </m:e>
                            </m:rad>
                          </m:den>
                        </m:f>
                      </m:e>
                    </m:d>
                    <m:r>
                      <m:t xml:space="preserve">≃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Object 12"/>
              <p:cNvSpPr txBox="1"/>
              <p:nvPr/>
            </p:nvSpPr>
            <p:spPr>
              <a:xfrm>
                <a:off x="2759040" y="5127480"/>
                <a:ext cx="4392720" cy="61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+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≃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xyP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r>
                              <m:t xml:space="preserve">y</m:t>
                            </m:r>
                            <m:r>
                              <m:t xml:space="preserve">)</m:t>
                            </m:r>
                            <m:r>
                              <m:t xml:space="preserve">d</m:t>
                            </m:r>
                          </m:e>
                        </m:nary>
                        <m:r>
                          <m:t xml:space="preserve">y</m:t>
                        </m:r>
                      </m:e>
                    </m:nary>
                    <m:r>
                      <m:t xml:space="preserve">+</m:t>
                    </m:r>
                    <m:r>
                      <m:t xml:space="preserve">Θ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N</m:t>
                                </m:r>
                              </m:e>
                            </m:rad>
                          </m:den>
                        </m:f>
                      </m:e>
                    </m:d>
                    <m:r>
                      <m:t xml:space="preserve">≃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Object 21"/>
              <p:cNvSpPr txBox="1"/>
              <p:nvPr/>
            </p:nvSpPr>
            <p:spPr>
              <a:xfrm>
                <a:off x="7577280" y="5275440"/>
                <a:ext cx="904680" cy="29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1,2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7000" y="836280"/>
            <a:ext cx="9209160" cy="66348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Contenidos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920880" y="1844280"/>
            <a:ext cx="8424720" cy="42483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marL="514440" indent="-51444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Funciones de MATLAB relacionadas con la aleatoriedad:</a:t>
            </a:r>
            <a:br>
              <a:rPr sz="2400"/>
            </a:b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rand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randn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random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y 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randper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Generadores de números pseudo-aleatorios:</a:t>
            </a:r>
            <a:br>
              <a:rPr sz="2400"/>
            </a:b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Concepto, tests de caracterización y repetitivida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Métodos de Monte Carlo y aplicacione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Paseo aleatori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Desintegración radioactiv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Integración numéric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ctr">
              <a:spcBef>
                <a:spcPts val="14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0000"/>
                </a:solidFill>
                <a:latin typeface="Calibri"/>
              </a:rPr>
              <a:t>1 sesión teórica + 1 sesión práctic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Métodos Aleatorios</a:t>
            </a: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Métodos Aleatorios</a:t>
            </a: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188" name="Footer Placeholder 6"/>
          <p:cNvSpPr/>
          <p:nvPr/>
        </p:nvSpPr>
        <p:spPr>
          <a:xfrm>
            <a:off x="4592520" y="101520"/>
            <a:ext cx="52182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Generadores pseudo-aleatorios</a:t>
            </a: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189" name="Rectangle 3"/>
          <p:cNvSpPr/>
          <p:nvPr/>
        </p:nvSpPr>
        <p:spPr>
          <a:xfrm>
            <a:off x="272880" y="1917720"/>
            <a:ext cx="9504360" cy="41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1412"/>
              </a:spcBef>
              <a:buClr>
                <a:srgbClr val="333399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Dibujar la gráfica de scattering r(2i+1) frente r(2i).</a:t>
            </a:r>
            <a:endParaRPr b="0" lang="en-US" sz="24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457200" indent="-457200">
              <a:spcBef>
                <a:spcPts val="1412"/>
              </a:spcBef>
              <a:buClr>
                <a:srgbClr val="333399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Correr el cálculo o simulación con r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,r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,r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,… y con (1-r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),(1-r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),(1-r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),…</a:t>
            </a:r>
            <a:endParaRPr b="0" lang="en-US" sz="24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lvl="1" marL="717480" indent="-380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Los resultados no deben diferir más allá de la estadística.</a:t>
            </a: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457200" indent="-457200">
              <a:spcBef>
                <a:spcPts val="1412"/>
              </a:spcBef>
              <a:buClr>
                <a:srgbClr val="333399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Correr el cálculo o simulación con una secuencia de números verdaderamente aleatorios tabulados y comparar con el generador de números pseudo-aleatorios.</a:t>
            </a:r>
            <a:endParaRPr b="0" lang="en-US" sz="24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457200" indent="-457200">
              <a:spcBef>
                <a:spcPts val="1412"/>
              </a:spcBef>
              <a:buClr>
                <a:srgbClr val="333399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Realizar el test 3 para k = 1, 3, 7 y N = 1e2, 1e4, 1e5.</a:t>
            </a:r>
            <a:endParaRPr b="0" lang="en-US" sz="24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457200" indent="-457200">
              <a:spcBef>
                <a:spcPts val="1412"/>
              </a:spcBef>
              <a:buClr>
                <a:srgbClr val="333399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Realizar el test 4 a la serie levemente correlacionada r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,(1-r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),r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,(1-r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),r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, (1-r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),… para N = 1e2, 1e4, 1e5.</a:t>
            </a:r>
            <a:endParaRPr b="0" lang="en-US" sz="24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190" name="Title 4"/>
          <p:cNvSpPr/>
          <p:nvPr/>
        </p:nvSpPr>
        <p:spPr>
          <a:xfrm>
            <a:off x="0" y="836640"/>
            <a:ext cx="990612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Tests de Aleatoriedad y Uniformidad (cont.)</a:t>
            </a:r>
            <a:endParaRPr b="0" lang="en-US" sz="36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Métodos Aleatorios</a:t>
            </a: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192" name="Footer Placeholder 6"/>
          <p:cNvSpPr/>
          <p:nvPr/>
        </p:nvSpPr>
        <p:spPr>
          <a:xfrm>
            <a:off x="4592520" y="101520"/>
            <a:ext cx="52182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Generadores pseudo-aleatorios</a:t>
            </a: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193" name="Rectangle 3"/>
          <p:cNvSpPr/>
          <p:nvPr/>
        </p:nvSpPr>
        <p:spPr>
          <a:xfrm>
            <a:off x="272880" y="1917720"/>
            <a:ext cx="9504360" cy="41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194" name="Title 4"/>
          <p:cNvSpPr/>
          <p:nvPr/>
        </p:nvSpPr>
        <p:spPr>
          <a:xfrm>
            <a:off x="0" y="836640"/>
            <a:ext cx="990612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Repetitividad en Secuencias Pseudo-Aleatorias</a:t>
            </a:r>
            <a:endParaRPr b="0" lang="en-US" sz="36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195" name="Rectangle 3"/>
          <p:cNvSpPr/>
          <p:nvPr/>
        </p:nvSpPr>
        <p:spPr>
          <a:xfrm>
            <a:off x="272880" y="1700280"/>
            <a:ext cx="9288720" cy="38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A veces resulta útil poder correr un cálculo o simulación con 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exactamente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la misma secuencia pseudo-aleatoria:</a:t>
            </a:r>
            <a:endParaRPr b="0" lang="en-US" sz="24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lvl="1" marL="717480" indent="-380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Para el debugging de scripts</a:t>
            </a: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lvl="1" marL="717480" indent="-380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Para chequear si el método computacional es correcto</a:t>
            </a: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457200" indent="-4572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Para que una secuencia pseudo-aleatoria sea reproducible debemos utilizar siempre la 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misma semilla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457200" indent="-4572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Para cambiar la secuencia, basta usar una semilla distinta:</a:t>
            </a:r>
            <a:endParaRPr b="0" lang="en-US" sz="24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lvl="1" marL="717480" indent="-380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Cambio automático del estado tras una ejecución de la función en MATLAB</a:t>
            </a: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lvl="1" marL="717480" indent="-380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Uso del reloj del sistema como semilla</a:t>
            </a: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pic>
        <p:nvPicPr>
          <p:cNvPr id="196" name="Picture 7" descr=""/>
          <p:cNvPicPr/>
          <p:nvPr/>
        </p:nvPicPr>
        <p:blipFill>
          <a:blip r:embed="rId1"/>
          <a:stretch/>
        </p:blipFill>
        <p:spPr>
          <a:xfrm>
            <a:off x="3527280" y="5722920"/>
            <a:ext cx="576360" cy="514440"/>
          </a:xfrm>
          <a:prstGeom prst="rect">
            <a:avLst/>
          </a:prstGeom>
          <a:ln w="0">
            <a:noFill/>
          </a:ln>
        </p:spPr>
      </p:pic>
      <p:sp>
        <p:nvSpPr>
          <p:cNvPr id="197" name="Rectangle 3"/>
          <p:cNvSpPr/>
          <p:nvPr/>
        </p:nvSpPr>
        <p:spPr>
          <a:xfrm>
            <a:off x="3743280" y="5761080"/>
            <a:ext cx="22179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6600" indent="-336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Calibri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Calibri"/>
              </a:rPr>
              <a:t>EJEMPLO_09.m</a:t>
            </a: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Métodos Aleatorios</a:t>
            </a: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199" name="Footer Placeholder 6"/>
          <p:cNvSpPr/>
          <p:nvPr/>
        </p:nvSpPr>
        <p:spPr>
          <a:xfrm>
            <a:off x="4592520" y="101520"/>
            <a:ext cx="52182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Métodos de Monte Carlo</a:t>
            </a: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200" name="Rectangle 3"/>
          <p:cNvSpPr/>
          <p:nvPr/>
        </p:nvSpPr>
        <p:spPr>
          <a:xfrm>
            <a:off x="272880" y="1917720"/>
            <a:ext cx="9504360" cy="41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201" name="Title 4"/>
          <p:cNvSpPr/>
          <p:nvPr/>
        </p:nvSpPr>
        <p:spPr>
          <a:xfrm>
            <a:off x="0" y="836640"/>
            <a:ext cx="990612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Monte Carlo</a:t>
            </a:r>
            <a:endParaRPr b="0" lang="en-US" sz="36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202" name="Rectangle 3"/>
          <p:cNvSpPr/>
          <p:nvPr/>
        </p:nvSpPr>
        <p:spPr>
          <a:xfrm>
            <a:off x="272880" y="1844640"/>
            <a:ext cx="928872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14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Familia de métodos que involucran el uso de un número alto de muestras aleatorias para solucionar problemas matemáticos o físicos mediante técnicas estadísticas.</a:t>
            </a:r>
            <a:endParaRPr b="0" lang="en-US" sz="24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203" name="Rectangle 3"/>
          <p:cNvSpPr/>
          <p:nvPr/>
        </p:nvSpPr>
        <p:spPr>
          <a:xfrm>
            <a:off x="1928880" y="3286080"/>
            <a:ext cx="5904000" cy="27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Simulación de procesos físicos aleatorios:</a:t>
            </a:r>
            <a:endParaRPr b="0" lang="en-US" sz="24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lvl="1" marL="717480" indent="-380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Movimiento térmico</a:t>
            </a: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lvl="1" marL="717480" indent="-380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Desintegración radioactiva</a:t>
            </a: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457200" indent="-4572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Método matemático:</a:t>
            </a:r>
            <a:endParaRPr b="0" lang="en-US" sz="24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lvl="1" marL="717480" indent="-380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Integración numérica por rechazo</a:t>
            </a: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lvl="1" marL="717480" indent="-380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Integración numérica por valor medio</a:t>
            </a: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lvl="1" marL="717480" indent="-380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Métodos Aleatorios</a:t>
            </a: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205" name="Footer Placeholder 6"/>
          <p:cNvSpPr/>
          <p:nvPr/>
        </p:nvSpPr>
        <p:spPr>
          <a:xfrm>
            <a:off x="4592520" y="101520"/>
            <a:ext cx="52182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Métodos de Monte Carlo</a:t>
            </a: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206" name="Rectangle 3"/>
          <p:cNvSpPr/>
          <p:nvPr/>
        </p:nvSpPr>
        <p:spPr>
          <a:xfrm>
            <a:off x="272880" y="1917720"/>
            <a:ext cx="9504360" cy="41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207" name="Title 4"/>
          <p:cNvSpPr/>
          <p:nvPr/>
        </p:nvSpPr>
        <p:spPr>
          <a:xfrm>
            <a:off x="0" y="836640"/>
            <a:ext cx="990612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Paseo Aleatorio</a:t>
            </a:r>
            <a:endParaRPr b="0" lang="en-US" sz="36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208" name="Rectangle 3"/>
          <p:cNvSpPr/>
          <p:nvPr/>
        </p:nvSpPr>
        <p:spPr>
          <a:xfrm>
            <a:off x="272880" y="1773360"/>
            <a:ext cx="6480360" cy="46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Procesos físicos en los que una partícula parece moverse aleatoriamente:</a:t>
            </a:r>
            <a:endParaRPr b="0" lang="en-US" sz="24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lvl="1" marL="717480" indent="-380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Movimiento browniano</a:t>
            </a: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lvl="1" marL="717480" indent="-380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Transporte de electrones en metales</a:t>
            </a: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lvl="2" marL="1019160" indent="-3427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457200" indent="-4572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Calibri"/>
              </a:rPr>
              <a:t>Problema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: ¿Cuántas colisiones (de media) debe sufrir una partícula para recorrer una distancia radial R?</a:t>
            </a:r>
            <a:endParaRPr b="0" lang="en-US" sz="24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457200" indent="-4572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Calibri"/>
              </a:rPr>
              <a:t>Modelo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: Caminar N pasos de longitud r en direcciones aleatorias.</a:t>
            </a:r>
            <a:endParaRPr b="0" lang="en-US" sz="24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pic>
        <p:nvPicPr>
          <p:cNvPr id="209" name="Picture 8" descr=""/>
          <p:cNvPicPr/>
          <p:nvPr/>
        </p:nvPicPr>
        <p:blipFill>
          <a:blip r:embed="rId1"/>
          <a:stretch/>
        </p:blipFill>
        <p:spPr>
          <a:xfrm>
            <a:off x="7257960" y="2133720"/>
            <a:ext cx="1865520" cy="36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Métodos Aleatorios</a:t>
            </a: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211" name="Footer Placeholder 6"/>
          <p:cNvSpPr/>
          <p:nvPr/>
        </p:nvSpPr>
        <p:spPr>
          <a:xfrm>
            <a:off x="4592520" y="101520"/>
            <a:ext cx="52182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Métodos de Monte Carlo</a:t>
            </a: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212" name="Rectangle 3"/>
          <p:cNvSpPr/>
          <p:nvPr/>
        </p:nvSpPr>
        <p:spPr>
          <a:xfrm>
            <a:off x="272880" y="1917720"/>
            <a:ext cx="9504360" cy="41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213" name="Title 4"/>
          <p:cNvSpPr/>
          <p:nvPr/>
        </p:nvSpPr>
        <p:spPr>
          <a:xfrm>
            <a:off x="0" y="836640"/>
            <a:ext cx="990612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Paseo Aleatorio - Teoría</a:t>
            </a:r>
            <a:endParaRPr b="0" lang="en-US" sz="36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214" name="Rectangle 3"/>
          <p:cNvSpPr/>
          <p:nvPr/>
        </p:nvSpPr>
        <p:spPr>
          <a:xfrm>
            <a:off x="272880" y="1773360"/>
            <a:ext cx="9360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¿A qué distancia del origen llegamos después de N pasos?</a:t>
            </a:r>
            <a:endParaRPr b="0" lang="en-US" sz="24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pic>
        <p:nvPicPr>
          <p:cNvPr id="215" name="Picture 8" descr=""/>
          <p:cNvPicPr/>
          <p:nvPr/>
        </p:nvPicPr>
        <p:blipFill>
          <a:blip r:embed="rId1"/>
          <a:stretch/>
        </p:blipFill>
        <p:spPr>
          <a:xfrm>
            <a:off x="336600" y="2708280"/>
            <a:ext cx="2023920" cy="29527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16" name="Object 9"/>
              <p:cNvSpPr txBox="1"/>
              <p:nvPr/>
            </p:nvSpPr>
            <p:spPr>
              <a:xfrm>
                <a:off x="2936880" y="2492280"/>
                <a:ext cx="525456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Δ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Δ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Δ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Δ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Δy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Δy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" name="Object 10"/>
              <p:cNvSpPr txBox="1"/>
              <p:nvPr/>
            </p:nvSpPr>
            <p:spPr>
              <a:xfrm>
                <a:off x="3222720" y="2962440"/>
                <a:ext cx="6276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bSup>
                      <m:e>
                        <m:r>
                          <m:t xml:space="preserve">Δx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sSubSup>
                      <m:e>
                        <m:r>
                          <m:t xml:space="preserve">Δx</m:t>
                        </m:r>
                      </m:e>
                      <m:sub>
                        <m:r>
                          <m:t xml:space="preserve">N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Δ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Δ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Δ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Δx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Δ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Δ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→</m:t>
                    </m:r>
                    <m:r>
                      <m:t xml:space="preserve">y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8" name="Rectangle 3"/>
          <p:cNvSpPr/>
          <p:nvPr/>
        </p:nvSpPr>
        <p:spPr>
          <a:xfrm>
            <a:off x="2433600" y="3571920"/>
            <a:ext cx="7128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17480" indent="-380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Si las direcciones son aleatorias, para N alto, los términos cruzados se anulan:</a:t>
            </a: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9" name="Object 13"/>
              <p:cNvSpPr txBox="1"/>
              <p:nvPr/>
            </p:nvSpPr>
            <p:spPr>
              <a:xfrm>
                <a:off x="3224160" y="4292640"/>
                <a:ext cx="43401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≃</m:t>
                    </m:r>
                    <m:sSubSup>
                      <m:e>
                        <m:r>
                          <m:t xml:space="preserve">Δx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sSubSup>
                      <m:e>
                        <m:r>
                          <m:t xml:space="preserve">Δx</m:t>
                        </m:r>
                      </m:e>
                      <m:sub>
                        <m:r>
                          <m:t xml:space="preserve">N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+</m:t>
                    </m:r>
                    <m:sSubSup>
                      <m:e>
                        <m:r>
                          <m:t xml:space="preserve">Δy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sSubSup>
                      <m:e>
                        <m:r>
                          <m:t xml:space="preserve">Δy</m:t>
                        </m:r>
                      </m:e>
                      <m:sub>
                        <m:r>
                          <m:t xml:space="preserve">N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N</m:t>
                    </m:r>
                    <m:d>
                      <m:dPr>
                        <m:begChr m:val="⟨"/>
                        <m:endChr m:val="⟩"/>
                      </m:dPr>
                      <m:e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" name="Object 14"/>
              <p:cNvSpPr txBox="1"/>
              <p:nvPr/>
            </p:nvSpPr>
            <p:spPr>
              <a:xfrm>
                <a:off x="3224160" y="4924440"/>
                <a:ext cx="104148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≃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N</m:t>
                        </m:r>
                      </m:e>
                    </m:rad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21" name="Rectangle 3"/>
          <p:cNvSpPr/>
          <p:nvPr/>
        </p:nvSpPr>
        <p:spPr>
          <a:xfrm>
            <a:off x="3657600" y="4937040"/>
            <a:ext cx="624852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17480" indent="-380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Si damos un paseo de N pasos en direcciones aleatorias cubriendo una distancia total de Nr</a:t>
            </a:r>
            <a:r>
              <a:rPr b="1" lang="es-ES" sz="2000" spc="-1" strike="noStrike" baseline="-25000">
                <a:solidFill>
                  <a:srgbClr val="000000"/>
                </a:solidFill>
                <a:latin typeface="Calibri"/>
              </a:rPr>
              <a:t>rms</a:t>
            </a: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, acabamos el paseo (de media) a una distancia radial sqrt(N)r</a:t>
            </a:r>
            <a:r>
              <a:rPr b="1" lang="es-ES" sz="2000" spc="-1" strike="noStrike" baseline="-25000">
                <a:solidFill>
                  <a:srgbClr val="000000"/>
                </a:solidFill>
                <a:latin typeface="Calibri"/>
              </a:rPr>
              <a:t>rms</a:t>
            </a: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 del punto de comienzo.</a:t>
            </a: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222" name="Rectangle 16"/>
          <p:cNvSpPr/>
          <p:nvPr/>
        </p:nvSpPr>
        <p:spPr>
          <a:xfrm>
            <a:off x="3114720" y="4869000"/>
            <a:ext cx="1224000" cy="504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Métodos Aleatorios</a:t>
            </a: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224" name="Footer Placeholder 6"/>
          <p:cNvSpPr/>
          <p:nvPr/>
        </p:nvSpPr>
        <p:spPr>
          <a:xfrm>
            <a:off x="4592520" y="101520"/>
            <a:ext cx="52182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Métodos de Monte Carlo</a:t>
            </a: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225" name="Title 4"/>
          <p:cNvSpPr/>
          <p:nvPr/>
        </p:nvSpPr>
        <p:spPr>
          <a:xfrm>
            <a:off x="0" y="836640"/>
            <a:ext cx="990612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Paseo Aleatorio - Simulación</a:t>
            </a:r>
            <a:endParaRPr b="0" lang="en-US" sz="36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pic>
        <p:nvPicPr>
          <p:cNvPr id="226" name="Picture 17" descr=""/>
          <p:cNvPicPr/>
          <p:nvPr/>
        </p:nvPicPr>
        <p:blipFill>
          <a:blip r:embed="rId1"/>
          <a:stretch/>
        </p:blipFill>
        <p:spPr>
          <a:xfrm>
            <a:off x="585720" y="1546200"/>
            <a:ext cx="576360" cy="514440"/>
          </a:xfrm>
          <a:prstGeom prst="rect">
            <a:avLst/>
          </a:prstGeom>
          <a:ln w="0">
            <a:noFill/>
          </a:ln>
        </p:spPr>
      </p:pic>
      <p:sp>
        <p:nvSpPr>
          <p:cNvPr id="227" name="Rectangle 3"/>
          <p:cNvSpPr/>
          <p:nvPr/>
        </p:nvSpPr>
        <p:spPr>
          <a:xfrm>
            <a:off x="801720" y="1584360"/>
            <a:ext cx="22176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6600" indent="-336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Calibri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Calibri"/>
              </a:rPr>
              <a:t>EJEMPLO_10.m</a:t>
            </a: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pic>
        <p:nvPicPr>
          <p:cNvPr id="228" name="Picture 9" descr=""/>
          <p:cNvPicPr/>
          <p:nvPr/>
        </p:nvPicPr>
        <p:blipFill>
          <a:blip r:embed="rId2"/>
          <a:stretch/>
        </p:blipFill>
        <p:spPr>
          <a:xfrm>
            <a:off x="344520" y="2147760"/>
            <a:ext cx="9306000" cy="4305600"/>
          </a:xfrm>
          <a:prstGeom prst="rect">
            <a:avLst/>
          </a:prstGeom>
          <a:ln w="0">
            <a:noFill/>
          </a:ln>
        </p:spPr>
      </p:pic>
      <p:sp>
        <p:nvSpPr>
          <p:cNvPr id="229" name="TextBox 9"/>
          <p:cNvSpPr/>
          <p:nvPr/>
        </p:nvSpPr>
        <p:spPr>
          <a:xfrm>
            <a:off x="1496880" y="4292640"/>
            <a:ext cx="1224000" cy="5806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1 paseo de 1000 pasos</a:t>
            </a:r>
            <a:endParaRPr b="0" lang="en-US" sz="16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230" name="TextBox 10"/>
          <p:cNvSpPr/>
          <p:nvPr/>
        </p:nvSpPr>
        <p:spPr>
          <a:xfrm>
            <a:off x="6032520" y="2637000"/>
            <a:ext cx="1873080" cy="5806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Media de 31 paseos de 1000 pasos</a:t>
            </a:r>
            <a:endParaRPr b="0" lang="en-US" sz="16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Métodos Aleatorios</a:t>
            </a: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232" name="Footer Placeholder 6"/>
          <p:cNvSpPr/>
          <p:nvPr/>
        </p:nvSpPr>
        <p:spPr>
          <a:xfrm>
            <a:off x="4592520" y="101520"/>
            <a:ext cx="52182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Métodos de Monte Carlo</a:t>
            </a: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233" name="Rectangle 3"/>
          <p:cNvSpPr/>
          <p:nvPr/>
        </p:nvSpPr>
        <p:spPr>
          <a:xfrm>
            <a:off x="272880" y="1917720"/>
            <a:ext cx="9504360" cy="41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234" name="Title 4"/>
          <p:cNvSpPr/>
          <p:nvPr/>
        </p:nvSpPr>
        <p:spPr>
          <a:xfrm>
            <a:off x="0" y="836640"/>
            <a:ext cx="990612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Desintegración Radioactiva</a:t>
            </a:r>
            <a:endParaRPr b="0" lang="en-US" sz="36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235" name="Rectangle 3"/>
          <p:cNvSpPr/>
          <p:nvPr/>
        </p:nvSpPr>
        <p:spPr>
          <a:xfrm>
            <a:off x="272880" y="1773360"/>
            <a:ext cx="9433080" cy="46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Proceso natural en el que una partícula (átomo, núcleo), sin ningún estímulo externo, se desintegra en otras partículas.</a:t>
            </a:r>
            <a:endParaRPr b="0" lang="en-US" sz="24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457200" indent="-4572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El instante en el que una partícula se desintegra es aleatorio. Es independiente de cuánto lleva existiendo la partícula o de qué le ocurre a otras a su alrededor.</a:t>
            </a:r>
            <a:endParaRPr b="0" lang="en-US" sz="24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lvl="1" marL="717480" indent="-380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La probabilidad P(t) de desintegración por unidad de tiempo y por partícula es constante:</a:t>
            </a: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lvl="1" marL="717480" indent="-380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P(t) = probab desinteg / t / partícula = -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lvl="1" marL="717480" indent="-380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Al ir diminuyendo el número de partículas N, lógicamente también lo hará el número de desintegraciones:</a:t>
            </a: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lvl="1" marL="717480" indent="-380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N(t), 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N/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t ↓ con t</a:t>
            </a: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Métodos Aleatorios</a:t>
            </a: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237" name="Footer Placeholder 6"/>
          <p:cNvSpPr/>
          <p:nvPr/>
        </p:nvSpPr>
        <p:spPr>
          <a:xfrm>
            <a:off x="4592520" y="101520"/>
            <a:ext cx="52182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Métodos de Monte Carlo</a:t>
            </a: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238" name="Title 4"/>
          <p:cNvSpPr/>
          <p:nvPr/>
        </p:nvSpPr>
        <p:spPr>
          <a:xfrm>
            <a:off x="0" y="836640"/>
            <a:ext cx="990612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Desintegración Radioactiva - Simulación</a:t>
            </a:r>
            <a:endParaRPr b="0" lang="en-US" sz="36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pic>
        <p:nvPicPr>
          <p:cNvPr id="239" name="Picture 6" descr=""/>
          <p:cNvPicPr/>
          <p:nvPr/>
        </p:nvPicPr>
        <p:blipFill>
          <a:blip r:embed="rId1"/>
          <a:stretch/>
        </p:blipFill>
        <p:spPr>
          <a:xfrm>
            <a:off x="488880" y="1762200"/>
            <a:ext cx="576360" cy="514440"/>
          </a:xfrm>
          <a:prstGeom prst="rect">
            <a:avLst/>
          </a:prstGeom>
          <a:ln w="0">
            <a:noFill/>
          </a:ln>
        </p:spPr>
      </p:pic>
      <p:sp>
        <p:nvSpPr>
          <p:cNvPr id="240" name="Rectangle 3"/>
          <p:cNvSpPr/>
          <p:nvPr/>
        </p:nvSpPr>
        <p:spPr>
          <a:xfrm>
            <a:off x="704880" y="1800360"/>
            <a:ext cx="22176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6600" indent="-336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Calibri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Calibri"/>
              </a:rPr>
              <a:t>EJEMPLO_11.m</a:t>
            </a: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pic>
        <p:nvPicPr>
          <p:cNvPr id="241" name="Picture 8" descr=""/>
          <p:cNvPicPr/>
          <p:nvPr/>
        </p:nvPicPr>
        <p:blipFill>
          <a:blip r:embed="rId2"/>
          <a:stretch/>
        </p:blipFill>
        <p:spPr>
          <a:xfrm>
            <a:off x="3368520" y="1700280"/>
            <a:ext cx="6323040" cy="4687920"/>
          </a:xfrm>
          <a:prstGeom prst="rect">
            <a:avLst/>
          </a:prstGeom>
          <a:ln w="0">
            <a:noFill/>
          </a:ln>
        </p:spPr>
      </p:pic>
      <p:sp>
        <p:nvSpPr>
          <p:cNvPr id="242" name="Rectangle 3"/>
          <p:cNvSpPr/>
          <p:nvPr/>
        </p:nvSpPr>
        <p:spPr>
          <a:xfrm>
            <a:off x="0" y="2421000"/>
            <a:ext cx="3152880" cy="26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14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La simulación del proceso demuestra:</a:t>
            </a:r>
            <a:endParaRPr b="0" lang="en-US" sz="24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lvl="1" marL="717480" indent="-380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Ley de desintegración exponencial:</a:t>
            </a: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lvl="1" marL="717480" indent="-380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N(t) 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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e</a:t>
            </a:r>
            <a:r>
              <a:rPr b="0" lang="es-ES" sz="2000" spc="-1" strike="noStrike" baseline="30000">
                <a:solidFill>
                  <a:srgbClr val="000000"/>
                </a:solidFill>
                <a:latin typeface="Calibri"/>
              </a:rPr>
              <a:t>-</a:t>
            </a:r>
            <a:r>
              <a:rPr b="0" lang="es-E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" sz="2000" spc="-1" strike="noStrike" baseline="30000">
                <a:solidFill>
                  <a:srgbClr val="000000"/>
                </a:solidFill>
                <a:latin typeface="Calibri"/>
              </a:rPr>
              <a:t>t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si N alto</a:t>
            </a: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lvl="1" marL="717480" indent="-380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Proceso estocástico si N bajo</a:t>
            </a: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Métodos Aleatorios</a:t>
            </a: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244" name="Footer Placeholder 6"/>
          <p:cNvSpPr/>
          <p:nvPr/>
        </p:nvSpPr>
        <p:spPr>
          <a:xfrm>
            <a:off x="4592520" y="101520"/>
            <a:ext cx="52182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Métodos de Monte Carlo</a:t>
            </a: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245" name="Rectangle 3"/>
          <p:cNvSpPr/>
          <p:nvPr/>
        </p:nvSpPr>
        <p:spPr>
          <a:xfrm>
            <a:off x="272880" y="1701720"/>
            <a:ext cx="9504360" cy="41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246" name="Title 4"/>
          <p:cNvSpPr/>
          <p:nvPr/>
        </p:nvSpPr>
        <p:spPr>
          <a:xfrm>
            <a:off x="0" y="836640"/>
            <a:ext cx="990612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Integración Numérica</a:t>
            </a:r>
            <a:endParaRPr b="0" lang="en-US" sz="36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247" name="Rectangle 3"/>
          <p:cNvSpPr/>
          <p:nvPr/>
        </p:nvSpPr>
        <p:spPr>
          <a:xfrm>
            <a:off x="0" y="1557360"/>
            <a:ext cx="71136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14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Tirar piedras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en un estanque con forma irregular como método para determinar su área:</a:t>
            </a:r>
            <a:endParaRPr b="0" lang="en-US" sz="24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248" name="Rectangle 3"/>
          <p:cNvSpPr/>
          <p:nvPr/>
        </p:nvSpPr>
        <p:spPr>
          <a:xfrm>
            <a:off x="488880" y="2362320"/>
            <a:ext cx="7272360" cy="31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601"/>
              </a:spcBef>
              <a:buClr>
                <a:srgbClr val="33339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Señalice una caja que encierre completamente el estanque y quite todas las piedras que contenga.</a:t>
            </a: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33339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Mida el área de esa caja (A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Calibri"/>
              </a:rPr>
              <a:t>box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33339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Coja un buen montón de piedras y láncelas al aire en direcciones aleatorias.</a:t>
            </a: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33339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Cuente el número de piedras que caen en el estanque (N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Calibri"/>
              </a:rPr>
              <a:t>pond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) y el número de piedras que caen al suelo dentro de la caja (N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Calibri"/>
              </a:rPr>
              <a:t>box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33339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Asumiendo que tiró las piedras uniforme y aleatoriamente, N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Calibri"/>
              </a:rPr>
              <a:t>pond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debe ser proporcional a A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Calibri"/>
              </a:rPr>
              <a:t>pond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grpSp>
        <p:nvGrpSpPr>
          <p:cNvPr id="249" name="Group 10"/>
          <p:cNvGrpSpPr/>
          <p:nvPr/>
        </p:nvGrpSpPr>
        <p:grpSpPr>
          <a:xfrm>
            <a:off x="7616880" y="1700280"/>
            <a:ext cx="2193840" cy="2391480"/>
            <a:chOff x="7616880" y="1700280"/>
            <a:chExt cx="2193840" cy="2391480"/>
          </a:xfrm>
        </p:grpSpPr>
        <p:pic>
          <p:nvPicPr>
            <p:cNvPr id="250" name="Picture 7" descr=""/>
            <p:cNvPicPr/>
            <p:nvPr/>
          </p:nvPicPr>
          <p:blipFill>
            <a:blip r:embed="rId1"/>
            <a:stretch/>
          </p:blipFill>
          <p:spPr>
            <a:xfrm>
              <a:off x="7616880" y="1700280"/>
              <a:ext cx="2016000" cy="195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1" name="Text Box 9"/>
            <p:cNvSpPr/>
            <p:nvPr/>
          </p:nvSpPr>
          <p:spPr>
            <a:xfrm>
              <a:off x="9018720" y="3632040"/>
              <a:ext cx="79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Calibri"/>
                </a:rPr>
                <a:t>Box</a:t>
              </a:r>
              <a:endParaRPr b="0" lang="en-US" sz="2400" spc="-1" strike="noStrike" u="sng">
                <a:solidFill>
                  <a:srgbClr val="000000"/>
                </a:solidFill>
                <a:uFillTx/>
                <a:latin typeface="Calibri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52" name="Object 11"/>
              <p:cNvSpPr txBox="1"/>
              <p:nvPr/>
            </p:nvSpPr>
            <p:spPr>
              <a:xfrm>
                <a:off x="2000160" y="5589720"/>
                <a:ext cx="2000520" cy="76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ond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ond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ox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ond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ox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" name="Object 12"/>
              <p:cNvSpPr txBox="1"/>
              <p:nvPr/>
            </p:nvSpPr>
            <p:spPr>
              <a:xfrm>
                <a:off x="4489560" y="5845320"/>
                <a:ext cx="318960" cy="25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4" name="Object 13"/>
              <p:cNvSpPr txBox="1"/>
              <p:nvPr/>
            </p:nvSpPr>
            <p:spPr>
              <a:xfrm>
                <a:off x="5162400" y="5589720"/>
                <a:ext cx="2382840" cy="76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ond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ond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ond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ox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x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Métodos Aleatorios</a:t>
            </a: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256" name="Footer Placeholder 6"/>
          <p:cNvSpPr/>
          <p:nvPr/>
        </p:nvSpPr>
        <p:spPr>
          <a:xfrm>
            <a:off x="4592520" y="101520"/>
            <a:ext cx="52182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Métodos de Monte Carlo</a:t>
            </a: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257" name="Rectangle 3"/>
          <p:cNvSpPr/>
          <p:nvPr/>
        </p:nvSpPr>
        <p:spPr>
          <a:xfrm>
            <a:off x="344520" y="1595520"/>
            <a:ext cx="9504360" cy="41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258" name="Title 4"/>
          <p:cNvSpPr/>
          <p:nvPr/>
        </p:nvSpPr>
        <p:spPr>
          <a:xfrm>
            <a:off x="0" y="836640"/>
            <a:ext cx="990612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Integración Numérica por Rechazo</a:t>
            </a:r>
            <a:endParaRPr b="0" lang="en-US" sz="36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259" name="Rectangle 3"/>
          <p:cNvSpPr/>
          <p:nvPr/>
        </p:nvSpPr>
        <p:spPr>
          <a:xfrm>
            <a:off x="155520" y="1882800"/>
            <a:ext cx="94899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14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Determinar el número </a:t>
            </a:r>
            <a:r>
              <a:rPr b="1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 utilizando la técnica de muestreo anterior.</a:t>
            </a:r>
            <a:endParaRPr b="0" lang="en-US" sz="24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260" name="Rectangle 3"/>
          <p:cNvSpPr/>
          <p:nvPr/>
        </p:nvSpPr>
        <p:spPr>
          <a:xfrm>
            <a:off x="631800" y="2314440"/>
            <a:ext cx="6575400" cy="37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601"/>
              </a:spcBef>
              <a:buClr>
                <a:srgbClr val="33339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Imagine un estanque circular encerrado en un cuadrado de lado 2.</a:t>
            </a: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33339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Sabemos que </a:t>
            </a: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33339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Generamos una secuencia de números aleatorios {r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} en [-1,1].</a:t>
            </a: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33339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Asignamos (x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, y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) = (r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Calibri"/>
              </a:rPr>
              <a:t>2i-1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, r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Calibri"/>
              </a:rPr>
              <a:t>2i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) para i = 1, …,N.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33339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Si x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s-ES" sz="2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+ y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s-ES" sz="2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&lt; 1, N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Calibri"/>
              </a:rPr>
              <a:t>pond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= N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Calibri"/>
              </a:rPr>
              <a:t>pond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+1. En otro caso, N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Calibri"/>
              </a:rPr>
              <a:t>box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= N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Calibri"/>
              </a:rPr>
              <a:t>box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+1.</a:t>
            </a: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33339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Usar</a:t>
            </a: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33339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33339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Aumente N hasta obtener 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con 3 cifras decimales.</a:t>
            </a: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1" name="Object 13"/>
              <p:cNvSpPr txBox="1"/>
              <p:nvPr/>
            </p:nvSpPr>
            <p:spPr>
              <a:xfrm>
                <a:off x="1855800" y="4950000"/>
                <a:ext cx="2786040" cy="76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ond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ond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ond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ox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x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62" name="Picture 18" descr=""/>
          <p:cNvPicPr/>
          <p:nvPr/>
        </p:nvPicPr>
        <p:blipFill>
          <a:blip r:embed="rId1"/>
          <a:stretch/>
        </p:blipFill>
        <p:spPr>
          <a:xfrm>
            <a:off x="68400" y="1484280"/>
            <a:ext cx="576000" cy="514440"/>
          </a:xfrm>
          <a:prstGeom prst="rect">
            <a:avLst/>
          </a:prstGeom>
          <a:ln w="0">
            <a:noFill/>
          </a:ln>
        </p:spPr>
      </p:pic>
      <p:sp>
        <p:nvSpPr>
          <p:cNvPr id="263" name="Rectangle 3"/>
          <p:cNvSpPr/>
          <p:nvPr/>
        </p:nvSpPr>
        <p:spPr>
          <a:xfrm>
            <a:off x="284040" y="1522440"/>
            <a:ext cx="22179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6600" indent="-336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Calibri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Calibri"/>
              </a:rPr>
              <a:t>EJEMPLO_12.m</a:t>
            </a: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4" name="Object 20"/>
              <p:cNvSpPr txBox="1"/>
              <p:nvPr/>
            </p:nvSpPr>
            <p:spPr>
              <a:xfrm>
                <a:off x="2647800" y="2986200"/>
                <a:ext cx="146700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∮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dA</m:t>
                        </m:r>
                      </m:e>
                    </m:nary>
                    <m:r>
                      <m:t xml:space="preserve">=</m:t>
                    </m:r>
                    <m:sSup>
                      <m:e>
                        <m:r>
                          <m:t xml:space="preserve">π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65" name="Group 27"/>
          <p:cNvGrpSpPr/>
          <p:nvPr/>
        </p:nvGrpSpPr>
        <p:grpSpPr>
          <a:xfrm>
            <a:off x="7761240" y="2459160"/>
            <a:ext cx="1800000" cy="2259720"/>
            <a:chOff x="7761240" y="2459160"/>
            <a:chExt cx="1800000" cy="2259720"/>
          </a:xfrm>
        </p:grpSpPr>
        <p:sp>
          <p:nvSpPr>
            <p:cNvPr id="266" name="Text Box 10"/>
            <p:cNvSpPr/>
            <p:nvPr/>
          </p:nvSpPr>
          <p:spPr>
            <a:xfrm>
              <a:off x="8769240" y="4259160"/>
              <a:ext cx="79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Box</a:t>
              </a:r>
              <a:endParaRPr b="0" lang="en-US" sz="2400" spc="-1" strike="noStrike" u="sng">
                <a:solidFill>
                  <a:srgbClr val="000000"/>
                </a:solidFill>
                <a:uFillTx/>
                <a:latin typeface="Calibri"/>
              </a:endParaRPr>
            </a:p>
          </p:txBody>
        </p:sp>
        <p:sp>
          <p:nvSpPr>
            <p:cNvPr id="267" name="Rectangle 14"/>
            <p:cNvSpPr/>
            <p:nvPr/>
          </p:nvSpPr>
          <p:spPr>
            <a:xfrm>
              <a:off x="7761240" y="2459160"/>
              <a:ext cx="1800000" cy="18000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 u="sng">
                <a:solidFill>
                  <a:srgbClr val="000000"/>
                </a:solidFill>
                <a:uFillTx/>
                <a:latin typeface="Calibri"/>
              </a:endParaRPr>
            </a:p>
          </p:txBody>
        </p:sp>
        <p:sp>
          <p:nvSpPr>
            <p:cNvPr id="268" name="Oval 15"/>
            <p:cNvSpPr/>
            <p:nvPr/>
          </p:nvSpPr>
          <p:spPr>
            <a:xfrm>
              <a:off x="7761240" y="2459160"/>
              <a:ext cx="1800000" cy="1800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 u="sng">
                <a:solidFill>
                  <a:srgbClr val="000000"/>
                </a:solidFill>
                <a:uFillTx/>
                <a:latin typeface="Calibri"/>
              </a:endParaRPr>
            </a:p>
          </p:txBody>
        </p:sp>
        <p:sp>
          <p:nvSpPr>
            <p:cNvPr id="269" name="Text Box 16"/>
            <p:cNvSpPr/>
            <p:nvPr/>
          </p:nvSpPr>
          <p:spPr>
            <a:xfrm>
              <a:off x="8192880" y="2601720"/>
              <a:ext cx="93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Pond</a:t>
              </a:r>
              <a:endParaRPr b="0" lang="en-US" sz="2400" spc="-1" strike="noStrike" u="sng">
                <a:solidFill>
                  <a:srgbClr val="000000"/>
                </a:solidFill>
                <a:uFillTx/>
                <a:latin typeface="Calibri"/>
              </a:endParaRPr>
            </a:p>
          </p:txBody>
        </p:sp>
        <p:sp>
          <p:nvSpPr>
            <p:cNvPr id="270" name="Line 21"/>
            <p:cNvSpPr/>
            <p:nvPr/>
          </p:nvSpPr>
          <p:spPr>
            <a:xfrm>
              <a:off x="8696160" y="3393720"/>
              <a:ext cx="8650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 u="sng">
                <a:solidFill>
                  <a:srgbClr val="000000"/>
                </a:solidFill>
                <a:uFillTx/>
                <a:latin typeface="Calibri"/>
              </a:endParaRPr>
            </a:p>
          </p:txBody>
        </p:sp>
        <p:sp>
          <p:nvSpPr>
            <p:cNvPr id="271" name="Text Box 22"/>
            <p:cNvSpPr/>
            <p:nvPr/>
          </p:nvSpPr>
          <p:spPr>
            <a:xfrm>
              <a:off x="8624880" y="3065400"/>
              <a:ext cx="93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alibri"/>
                </a:rPr>
                <a:t>r = 1</a:t>
              </a:r>
              <a:endParaRPr b="0" lang="en-US" sz="1800" spc="-1" strike="noStrike" u="sng">
                <a:solidFill>
                  <a:srgbClr val="000000"/>
                </a:solidFill>
                <a:uFillTx/>
                <a:latin typeface="Calibri"/>
              </a:endParaRPr>
            </a:p>
          </p:txBody>
        </p:sp>
        <p:sp>
          <p:nvSpPr>
            <p:cNvPr id="272" name="Line 24"/>
            <p:cNvSpPr/>
            <p:nvPr/>
          </p:nvSpPr>
          <p:spPr>
            <a:xfrm>
              <a:off x="8653320" y="3360600"/>
              <a:ext cx="71280" cy="7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800" spc="-1" strike="noStrike" u="sng">
                <a:solidFill>
                  <a:srgbClr val="000000"/>
                </a:solidFill>
                <a:uFillTx/>
                <a:latin typeface="Calibri"/>
              </a:endParaRPr>
            </a:p>
          </p:txBody>
        </p:sp>
        <p:sp>
          <p:nvSpPr>
            <p:cNvPr id="273" name="Line 25"/>
            <p:cNvSpPr/>
            <p:nvPr/>
          </p:nvSpPr>
          <p:spPr>
            <a:xfrm flipV="1">
              <a:off x="8653320" y="3360240"/>
              <a:ext cx="71280" cy="7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800" spc="-1" strike="noStrike" u="sng">
                <a:solidFill>
                  <a:srgbClr val="000000"/>
                </a:solidFill>
                <a:uFillTx/>
                <a:latin typeface="Calibri"/>
              </a:endParaRPr>
            </a:p>
          </p:txBody>
        </p:sp>
        <p:sp>
          <p:nvSpPr>
            <p:cNvPr id="274" name="Text Box 26"/>
            <p:cNvSpPr/>
            <p:nvPr/>
          </p:nvSpPr>
          <p:spPr>
            <a:xfrm>
              <a:off x="8235720" y="3393720"/>
              <a:ext cx="93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alibri"/>
                </a:rPr>
                <a:t>(0,0)</a:t>
              </a:r>
              <a:endParaRPr b="0" lang="en-US" sz="1800" spc="-1" strike="noStrike" u="sng">
                <a:solidFill>
                  <a:srgbClr val="000000"/>
                </a:solidFill>
                <a:uFillTx/>
                <a:latin typeface="Calibri"/>
              </a:endParaRPr>
            </a:p>
          </p:txBody>
        </p:sp>
      </p:grpSp>
      <p:sp>
        <p:nvSpPr>
          <p:cNvPr id="275" name="Rectangle 28"/>
          <p:cNvSpPr/>
          <p:nvPr/>
        </p:nvSpPr>
        <p:spPr>
          <a:xfrm>
            <a:off x="6797520" y="5024520"/>
            <a:ext cx="2901960" cy="1357200"/>
          </a:xfrm>
          <a:prstGeom prst="rect">
            <a:avLst/>
          </a:prstGeom>
          <a:solidFill>
            <a:srgbClr val="c00000">
              <a:alpha val="2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276" name="Rectangle 3"/>
          <p:cNvSpPr/>
          <p:nvPr/>
        </p:nvSpPr>
        <p:spPr>
          <a:xfrm>
            <a:off x="6753240" y="5189400"/>
            <a:ext cx="300348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673200" indent="-336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¿N=1e5, 1e6?</a:t>
            </a:r>
            <a:endParaRPr b="0" lang="en-US" sz="16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lvl="1" marL="673200" indent="-336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¿Tiempo de cómputo?</a:t>
            </a:r>
            <a:endParaRPr b="0" lang="en-US" sz="16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lvl="1" marL="673200" indent="-336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Pruebe </a:t>
            </a:r>
            <a:r>
              <a:rPr b="1" lang="es-ES" sz="1600" spc="-1" strike="noStrike">
                <a:solidFill>
                  <a:srgbClr val="333399"/>
                </a:solidFill>
                <a:latin typeface="Calibri"/>
              </a:rPr>
              <a:t>EJEMPLO_12b.m</a:t>
            </a:r>
            <a:endParaRPr b="0" lang="en-US" sz="16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pic>
        <p:nvPicPr>
          <p:cNvPr id="277" name="Picture 30" descr="MC900078711[1]"/>
          <p:cNvPicPr/>
          <p:nvPr/>
        </p:nvPicPr>
        <p:blipFill>
          <a:blip r:embed="rId2"/>
          <a:stretch/>
        </p:blipFill>
        <p:spPr>
          <a:xfrm>
            <a:off x="6918480" y="5046840"/>
            <a:ext cx="528480" cy="12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631440" y="1771560"/>
            <a:ext cx="8929800" cy="38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6600" indent="-3366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Saber utilizar las funciones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rand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y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randn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de MATLAB para la generación de secuencias aleatoria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6600" indent="-3366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Comprender la naturaleza pseudo-aleatoria de cualquier secuencia generada de manera determinista por un ordenado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6600" indent="-3366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Ser capaz de aplicar tests simples para determinar la uniformidad y aleatoriedad de secuencias pseudo-aleatoria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6600" indent="-3366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Comprender la utilidad de los métodos de Monte Carlo en la simulación de procesos físicos estocástico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6600" indent="-3366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Ser capaz de evaluar integrales multi-dimensionales mediante el muestreo del valor medio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itle 1"/>
          <p:cNvSpPr/>
          <p:nvPr/>
        </p:nvSpPr>
        <p:spPr>
          <a:xfrm>
            <a:off x="387360" y="836640"/>
            <a:ext cx="920916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Objetivos</a:t>
            </a:r>
            <a:endParaRPr b="0" lang="en-US" sz="36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72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Métodos Aleatorios</a:t>
            </a: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Métodos Aleatorios</a:t>
            </a: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279" name="Footer Placeholder 6"/>
          <p:cNvSpPr/>
          <p:nvPr/>
        </p:nvSpPr>
        <p:spPr>
          <a:xfrm>
            <a:off x="4592520" y="101520"/>
            <a:ext cx="52182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Métodos de Monte Carlo</a:t>
            </a: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280" name="Title 4"/>
          <p:cNvSpPr/>
          <p:nvPr/>
        </p:nvSpPr>
        <p:spPr>
          <a:xfrm>
            <a:off x="0" y="836640"/>
            <a:ext cx="990612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Integración Numérica por Valor Medio</a:t>
            </a:r>
            <a:endParaRPr b="0" lang="en-US" sz="36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281" name="Rectangle 3"/>
          <p:cNvSpPr/>
          <p:nvPr/>
        </p:nvSpPr>
        <p:spPr>
          <a:xfrm>
            <a:off x="272880" y="1700280"/>
            <a:ext cx="547236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La técnica estándar de Monte Carlo para integración está basada en el Teorema de Valor Medio:</a:t>
            </a:r>
            <a:endParaRPr b="0" lang="en-US" sz="24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2" name="Object 26"/>
              <p:cNvSpPr txBox="1"/>
              <p:nvPr/>
            </p:nvSpPr>
            <p:spPr>
              <a:xfrm>
                <a:off x="1681200" y="2924280"/>
                <a:ext cx="2766960" cy="68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d>
                          <m:dPr>
                            <m:begChr m:val="⟨"/>
                            <m:endChr m:val="⟩"/>
                          </m:dPr>
                          <m:e>
                            <m:r>
                              <m:t xml:space="preserve">f</m:t>
                            </m:r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p:pic>
        <p:nvPicPr>
          <p:cNvPr id="283" name="Picture 27" descr=""/>
          <p:cNvPicPr/>
          <p:nvPr/>
        </p:nvPicPr>
        <p:blipFill>
          <a:blip r:embed="rId1"/>
          <a:stretch/>
        </p:blipFill>
        <p:spPr>
          <a:xfrm>
            <a:off x="5626080" y="2131920"/>
            <a:ext cx="4079880" cy="2917800"/>
          </a:xfrm>
          <a:prstGeom prst="rect">
            <a:avLst/>
          </a:prstGeom>
          <a:ln w="0">
            <a:noFill/>
          </a:ln>
        </p:spPr>
      </p:pic>
      <p:sp>
        <p:nvSpPr>
          <p:cNvPr id="284" name="Rectangle 3"/>
          <p:cNvSpPr/>
          <p:nvPr/>
        </p:nvSpPr>
        <p:spPr>
          <a:xfrm>
            <a:off x="272880" y="3716280"/>
            <a:ext cx="547236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Se usa una secuencia x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de N números aleatorios uniformes en [a,b] para muestrear &lt;f&gt;:</a:t>
            </a:r>
            <a:endParaRPr b="0" lang="en-US" sz="24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5" name="Object 29"/>
              <p:cNvSpPr txBox="1"/>
              <p:nvPr/>
            </p:nvSpPr>
            <p:spPr>
              <a:xfrm>
                <a:off x="2151000" y="4754520"/>
                <a:ext cx="1827360" cy="89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r>
                          <m:t xml:space="preserve">f</m:t>
                        </m:r>
                      </m:e>
                    </m:d>
                    <m:r>
                      <m:t xml:space="preserve">≃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86" name="Rectangle 3"/>
          <p:cNvSpPr/>
          <p:nvPr/>
        </p:nvSpPr>
        <p:spPr>
          <a:xfrm>
            <a:off x="272880" y="5711760"/>
            <a:ext cx="806472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El error en el valor de la integral disminuye como 1/sqrt(N).</a:t>
            </a:r>
            <a:endParaRPr b="0" lang="en-US" sz="24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Métodos Aleatorios</a:t>
            </a: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288" name="Footer Placeholder 6"/>
          <p:cNvSpPr/>
          <p:nvPr/>
        </p:nvSpPr>
        <p:spPr>
          <a:xfrm>
            <a:off x="4592520" y="101520"/>
            <a:ext cx="52182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Métodos de Monte Carlo</a:t>
            </a: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289" name="Title 4"/>
          <p:cNvSpPr/>
          <p:nvPr/>
        </p:nvSpPr>
        <p:spPr>
          <a:xfrm>
            <a:off x="0" y="836640"/>
            <a:ext cx="990612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Integrales Multi-Dimensionales</a:t>
            </a:r>
            <a:endParaRPr b="0" lang="en-US" sz="36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290" name="Rectangle 3"/>
          <p:cNvSpPr/>
          <p:nvPr/>
        </p:nvSpPr>
        <p:spPr>
          <a:xfrm>
            <a:off x="272880" y="1700280"/>
            <a:ext cx="9433080" cy="46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La integración por valor medio puede generalizarse fácilmente a espacios multi-dimensionales:</a:t>
            </a:r>
            <a:endParaRPr b="0" lang="en-US" sz="24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457200" indent="-4572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457200" indent="-4572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Existen otros métodos de integración mejores para integrales simples y dobles, pero 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cuando la dimensionalidad es alta las técnicas de Monte Carlo son las mejores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457200" indent="-4572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1" name="Object 6"/>
              <p:cNvSpPr txBox="1"/>
              <p:nvPr/>
            </p:nvSpPr>
            <p:spPr>
              <a:xfrm>
                <a:off x="2055960" y="2492280"/>
                <a:ext cx="5794200" cy="68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y</m:t>
                            </m:r>
                            <m:nary>
                              <m:naryPr>
                                <m:chr m:val="∫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f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y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z</m:t>
                                </m:r>
                                <m:r>
                                  <m:t xml:space="preserve">)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b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a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d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c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f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e</m:t>
                                </m:r>
                                <m:r>
                                  <m:t xml:space="preserve">)</m:t>
                                </m:r>
                                <m:d>
                                  <m:dPr>
                                    <m:begChr m:val="⟨"/>
                                    <m:endChr m:val="⟩"/>
                                  </m:dPr>
                                  <m:e>
                                    <m:r>
                                      <m:t xml:space="preserve">f</m:t>
                                    </m:r>
                                  </m:e>
                                </m:d>
                              </m:e>
                            </m:nary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pic>
        <p:nvPicPr>
          <p:cNvPr id="292" name="Picture 11" descr=""/>
          <p:cNvPicPr/>
          <p:nvPr/>
        </p:nvPicPr>
        <p:blipFill>
          <a:blip r:embed="rId1"/>
          <a:stretch/>
        </p:blipFill>
        <p:spPr>
          <a:xfrm>
            <a:off x="415800" y="4724280"/>
            <a:ext cx="576360" cy="514440"/>
          </a:xfrm>
          <a:prstGeom prst="rect">
            <a:avLst/>
          </a:prstGeom>
          <a:ln w="0">
            <a:noFill/>
          </a:ln>
        </p:spPr>
      </p:pic>
      <p:sp>
        <p:nvSpPr>
          <p:cNvPr id="293" name="Rectangle 3"/>
          <p:cNvSpPr/>
          <p:nvPr/>
        </p:nvSpPr>
        <p:spPr>
          <a:xfrm>
            <a:off x="631800" y="4762440"/>
            <a:ext cx="2665440" cy="7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6600" indent="-336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Calibri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Calibri"/>
              </a:rPr>
              <a:t>EJEMPLO_13.m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Integración en 3D</a:t>
            </a: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4" name="Object 13"/>
              <p:cNvSpPr txBox="1"/>
              <p:nvPr/>
            </p:nvSpPr>
            <p:spPr>
              <a:xfrm>
                <a:off x="1025640" y="5483160"/>
                <a:ext cx="363852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nary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pic>
        <p:nvPicPr>
          <p:cNvPr id="295" name="Picture 14" descr=""/>
          <p:cNvPicPr/>
          <p:nvPr/>
        </p:nvPicPr>
        <p:blipFill>
          <a:blip r:embed="rId2"/>
          <a:stretch/>
        </p:blipFill>
        <p:spPr>
          <a:xfrm>
            <a:off x="5072040" y="4724280"/>
            <a:ext cx="576360" cy="514440"/>
          </a:xfrm>
          <a:prstGeom prst="rect">
            <a:avLst/>
          </a:prstGeom>
          <a:ln w="0">
            <a:noFill/>
          </a:ln>
        </p:spPr>
      </p:pic>
      <p:sp>
        <p:nvSpPr>
          <p:cNvPr id="296" name="Rectangle 3"/>
          <p:cNvSpPr/>
          <p:nvPr/>
        </p:nvSpPr>
        <p:spPr>
          <a:xfrm>
            <a:off x="5288040" y="4762440"/>
            <a:ext cx="2905200" cy="7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6600" indent="-336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Calibri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Calibri"/>
              </a:rPr>
              <a:t>EJEMPLO_14.m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Integración en 10D</a:t>
            </a: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7" name="Object 16"/>
              <p:cNvSpPr txBox="1"/>
              <p:nvPr/>
            </p:nvSpPr>
            <p:spPr>
              <a:xfrm>
                <a:off x="5699160" y="5483160"/>
                <a:ext cx="335736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7000" y="836280"/>
            <a:ext cx="9209160" cy="66348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Bibliografía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309240" y="1844280"/>
            <a:ext cx="9286920" cy="453708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marL="336600" indent="-3366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R.H. Landau, M.J. Páez, C.C. Bordeianu: </a:t>
            </a:r>
            <a:r>
              <a:rPr b="0" i="1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Computational Physics: Problem Solving with Computers, 2/E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. Wiley, 2007.</a:t>
            </a:r>
            <a:br>
              <a:rPr sz="2000"/>
            </a:br>
            <a:r>
              <a:rPr b="0" lang="en-GB" sz="18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1"/>
              </a:rPr>
              <a:t>http://physics.orst.edu/~rubin/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Transparencias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, videos, applets, 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6600" indent="-3366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S.R. Otto, J.P. Denier: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An Introduction to Programming and Numerical Methods in MATLAB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. Springer, 2005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6600" indent="-3366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A. O’Hare: </a:t>
            </a:r>
            <a:r>
              <a:rPr b="0" i="1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Numerical Methods for Physicists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. 2005.</a:t>
            </a:r>
            <a:br>
              <a:rPr sz="2000"/>
            </a:br>
            <a:r>
              <a:rPr b="0" sz="18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2"/>
              </a:rPr>
              <a:t>http://www-teaching.physics.ox.ac.uk/computing/NumericalMethods/NMfP.pdf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Métodos Aleatorios</a:t>
            </a: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387000" y="1642680"/>
            <a:ext cx="9318600" cy="149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6600" indent="-3366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Genera números reales aleatorios con distribución uniforme en el intervalo [0,1]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73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s-ES" sz="2400" spc="-1" strike="noStrike">
                <a:solidFill>
                  <a:srgbClr val="c00000"/>
                </a:solidFill>
                <a:latin typeface="Courier New"/>
              </a:rPr>
              <a:t>rand(M,N)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genera una matriz Mx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Footer Placeholder 6"/>
          <p:cNvSpPr/>
          <p:nvPr/>
        </p:nvSpPr>
        <p:spPr>
          <a:xfrm>
            <a:off x="5089680" y="101520"/>
            <a:ext cx="47210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Funciones de MATLAB</a:t>
            </a: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78" name="Title 4"/>
          <p:cNvSpPr/>
          <p:nvPr/>
        </p:nvSpPr>
        <p:spPr>
          <a:xfrm>
            <a:off x="387360" y="836640"/>
            <a:ext cx="920916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Función </a:t>
            </a:r>
            <a:r>
              <a:rPr b="1" lang="es-ES" sz="3600" spc="-1" strike="noStrike">
                <a:solidFill>
                  <a:srgbClr val="000000"/>
                </a:solidFill>
                <a:latin typeface="Courier New"/>
              </a:rPr>
              <a:t>rand</a:t>
            </a:r>
            <a:endParaRPr b="0" lang="en-US" sz="36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79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Métodos Aleatorios</a:t>
            </a: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pic>
        <p:nvPicPr>
          <p:cNvPr id="80" name="Picture 6" descr=""/>
          <p:cNvPicPr/>
          <p:nvPr/>
        </p:nvPicPr>
        <p:blipFill>
          <a:blip r:embed="rId1"/>
          <a:stretch/>
        </p:blipFill>
        <p:spPr>
          <a:xfrm>
            <a:off x="415800" y="3500280"/>
            <a:ext cx="649440" cy="5796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3"/>
          <p:cNvSpPr/>
          <p:nvPr/>
        </p:nvSpPr>
        <p:spPr>
          <a:xfrm>
            <a:off x="-15840" y="4005360"/>
            <a:ext cx="24940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6600" indent="-336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Calibri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Calibri"/>
              </a:rPr>
              <a:t>EJEMPLO_01.m</a:t>
            </a:r>
            <a:br>
              <a:rPr sz="2000"/>
            </a:br>
            <a:r>
              <a:rPr b="1" lang="es-ES" sz="1800" spc="-1" strike="noStrike">
                <a:solidFill>
                  <a:srgbClr val="000000"/>
                </a:solidFill>
                <a:latin typeface="Courier New"/>
              </a:rPr>
              <a:t>&gt;&gt; …</a:t>
            </a:r>
            <a:endParaRPr b="0" lang="en-US" sz="18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336600" indent="-336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Courier New"/>
              </a:rPr>
              <a:t>&gt;&gt; rand(1,100)</a:t>
            </a:r>
            <a:endParaRPr b="0" lang="en-US" sz="18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336600" indent="-336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Courier New"/>
              </a:rPr>
              <a:t>&gt;&gt; …</a:t>
            </a:r>
            <a:endParaRPr b="0" lang="en-US" sz="1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pic>
        <p:nvPicPr>
          <p:cNvPr id="82" name="Picture 8" descr=""/>
          <p:cNvPicPr/>
          <p:nvPr/>
        </p:nvPicPr>
        <p:blipFill>
          <a:blip r:embed="rId2"/>
          <a:stretch/>
        </p:blipFill>
        <p:spPr>
          <a:xfrm>
            <a:off x="2432160" y="3309840"/>
            <a:ext cx="7345080" cy="30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3" descr=""/>
          <p:cNvPicPr/>
          <p:nvPr/>
        </p:nvPicPr>
        <p:blipFill>
          <a:blip r:embed="rId1"/>
          <a:stretch/>
        </p:blipFill>
        <p:spPr>
          <a:xfrm>
            <a:off x="3224160" y="3720960"/>
            <a:ext cx="6527880" cy="2694240"/>
          </a:xfrm>
          <a:prstGeom prst="rect">
            <a:avLst/>
          </a:prstGeom>
          <a:ln w="0">
            <a:noFill/>
          </a:ln>
        </p:spPr>
      </p:pic>
      <p:sp>
        <p:nvSpPr>
          <p:cNvPr id="84" name="Footer Placeholder 6"/>
          <p:cNvSpPr/>
          <p:nvPr/>
        </p:nvSpPr>
        <p:spPr>
          <a:xfrm>
            <a:off x="5089680" y="101520"/>
            <a:ext cx="47210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Funciones de MATLAB</a:t>
            </a: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85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Métodos Aleatorios</a:t>
            </a: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pic>
        <p:nvPicPr>
          <p:cNvPr id="86" name="Picture 20" descr=""/>
          <p:cNvPicPr/>
          <p:nvPr/>
        </p:nvPicPr>
        <p:blipFill>
          <a:blip r:embed="rId2"/>
          <a:stretch/>
        </p:blipFill>
        <p:spPr>
          <a:xfrm>
            <a:off x="3224160" y="836640"/>
            <a:ext cx="6537240" cy="270360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3"/>
          <p:cNvSpPr/>
          <p:nvPr/>
        </p:nvSpPr>
        <p:spPr>
          <a:xfrm>
            <a:off x="849240" y="4893480"/>
            <a:ext cx="2133720" cy="368280"/>
          </a:xfrm>
          <a:prstGeom prst="rect">
            <a:avLst/>
          </a:prstGeom>
          <a:solidFill>
            <a:srgbClr val="ffffff">
              <a:alpha val="8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36600" indent="-336600">
              <a:lnSpc>
                <a:spcPct val="100000"/>
              </a:lnSpc>
              <a:spcBef>
                <a:spcPts val="14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urier New"/>
              </a:rPr>
              <a:t>&gt;&gt; rand(1,1e5)</a:t>
            </a:r>
            <a:endParaRPr b="0" lang="en-US" sz="1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0" y="2779560"/>
            <a:ext cx="3152880" cy="18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6600" indent="-336600">
              <a:spcBef>
                <a:spcPts val="14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s-ES" sz="2200" spc="-1" strike="noStrike">
                <a:solidFill>
                  <a:srgbClr val="000000"/>
                </a:solidFill>
                <a:latin typeface="Calibri"/>
              </a:rPr>
              <a:t>La función de distribución es tanto más visible cuanto mayor es el número de muestras generadas.</a:t>
            </a:r>
            <a:endParaRPr b="0" lang="en-US" sz="22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89" name="Rectangle 3"/>
          <p:cNvSpPr/>
          <p:nvPr/>
        </p:nvSpPr>
        <p:spPr>
          <a:xfrm>
            <a:off x="849240" y="1921680"/>
            <a:ext cx="2133720" cy="368280"/>
          </a:xfrm>
          <a:prstGeom prst="rect">
            <a:avLst/>
          </a:prstGeom>
          <a:solidFill>
            <a:srgbClr val="ffffff">
              <a:alpha val="8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36600" indent="-336600">
              <a:lnSpc>
                <a:spcPct val="100000"/>
              </a:lnSpc>
              <a:spcBef>
                <a:spcPts val="14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urier New"/>
              </a:rPr>
              <a:t>&gt;&gt; rand(1,100)</a:t>
            </a:r>
            <a:endParaRPr b="0" lang="en-US" sz="1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387000" y="1642680"/>
            <a:ext cx="4349880" cy="17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6600" indent="0">
              <a:spcBef>
                <a:spcPts val="14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Números reales aleatorios con distribución uniforme en el 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intervalo [0,1]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6600" indent="0">
              <a:lnSpc>
                <a:spcPct val="100000"/>
              </a:lnSpc>
              <a:spcBef>
                <a:spcPts val="14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&gt;&gt; rand(1,1e5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Footer Placeholder 6"/>
          <p:cNvSpPr/>
          <p:nvPr/>
        </p:nvSpPr>
        <p:spPr>
          <a:xfrm>
            <a:off x="5089680" y="101520"/>
            <a:ext cx="47210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Funciones de MATLAB</a:t>
            </a: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92" name="Title 4"/>
          <p:cNvSpPr/>
          <p:nvPr/>
        </p:nvSpPr>
        <p:spPr>
          <a:xfrm>
            <a:off x="387360" y="836640"/>
            <a:ext cx="920916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Desplazamiento de Distribuciones Uniformes</a:t>
            </a:r>
            <a:endParaRPr b="0" lang="en-US" sz="36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93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Métodos Aleatorios</a:t>
            </a: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pic>
        <p:nvPicPr>
          <p:cNvPr id="94" name="Picture 6" descr=""/>
          <p:cNvPicPr/>
          <p:nvPr/>
        </p:nvPicPr>
        <p:blipFill>
          <a:blip r:embed="rId1"/>
          <a:stretch/>
        </p:blipFill>
        <p:spPr>
          <a:xfrm>
            <a:off x="4613400" y="3500280"/>
            <a:ext cx="649080" cy="57960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3"/>
          <p:cNvSpPr/>
          <p:nvPr/>
        </p:nvSpPr>
        <p:spPr>
          <a:xfrm>
            <a:off x="3691080" y="4005360"/>
            <a:ext cx="2493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6600" indent="-336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Calibri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Calibri"/>
              </a:rPr>
              <a:t>EJEMPLO_02.m</a:t>
            </a: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96" name="Rectangle 3"/>
          <p:cNvSpPr/>
          <p:nvPr/>
        </p:nvSpPr>
        <p:spPr>
          <a:xfrm>
            <a:off x="5024520" y="1628640"/>
            <a:ext cx="460836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6600" indent="-336600">
              <a:spcBef>
                <a:spcPts val="14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Números reales aleatorios con distribución uniforme en el 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intervalo [a,b]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336600" indent="-336600">
              <a:lnSpc>
                <a:spcPct val="100000"/>
              </a:lnSpc>
              <a:spcBef>
                <a:spcPts val="14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&gt;&gt; </a:t>
            </a:r>
            <a:r>
              <a:rPr b="1" lang="es-ES" sz="2400" spc="-1" strike="noStrike">
                <a:solidFill>
                  <a:srgbClr val="c00000"/>
                </a:solidFill>
                <a:latin typeface="Courier New"/>
              </a:rPr>
              <a:t>a+(b-a)*rand(1,1e5)</a:t>
            </a:r>
            <a:endParaRPr b="0" lang="en-US" sz="24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pic>
        <p:nvPicPr>
          <p:cNvPr id="97" name="Picture 10" descr=""/>
          <p:cNvPicPr/>
          <p:nvPr/>
        </p:nvPicPr>
        <p:blipFill>
          <a:blip r:embed="rId2"/>
          <a:stretch/>
        </p:blipFill>
        <p:spPr>
          <a:xfrm>
            <a:off x="344520" y="3573360"/>
            <a:ext cx="3562200" cy="27910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1" descr=""/>
          <p:cNvPicPr/>
          <p:nvPr/>
        </p:nvPicPr>
        <p:blipFill>
          <a:blip r:embed="rId3"/>
          <a:stretch/>
        </p:blipFill>
        <p:spPr>
          <a:xfrm>
            <a:off x="6037200" y="3554280"/>
            <a:ext cx="3524400" cy="2810160"/>
          </a:xfrm>
          <a:prstGeom prst="rect">
            <a:avLst/>
          </a:prstGeom>
          <a:ln w="0">
            <a:noFill/>
          </a:ln>
        </p:spPr>
      </p:pic>
      <p:sp>
        <p:nvSpPr>
          <p:cNvPr id="99" name="AutoShape 12"/>
          <p:cNvSpPr/>
          <p:nvPr/>
        </p:nvSpPr>
        <p:spPr>
          <a:xfrm>
            <a:off x="4089240" y="4581360"/>
            <a:ext cx="1800360" cy="432000"/>
          </a:xfrm>
          <a:prstGeom prst="rightArrow">
            <a:avLst>
              <a:gd name="adj1" fmla="val 50000"/>
              <a:gd name="adj2" fmla="val 104188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100" name="Rectangle 3"/>
          <p:cNvSpPr/>
          <p:nvPr/>
        </p:nvSpPr>
        <p:spPr>
          <a:xfrm>
            <a:off x="4232160" y="5084640"/>
            <a:ext cx="1297080" cy="648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36600" indent="-336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urier New"/>
              </a:rPr>
              <a:t>a = -0.5</a:t>
            </a:r>
            <a:endParaRPr b="0" lang="en-US" sz="18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336600" indent="-336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urier New"/>
              </a:rPr>
              <a:t>b = 3</a:t>
            </a:r>
            <a:endParaRPr b="0" lang="en-US" sz="1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387000" y="1642680"/>
            <a:ext cx="9318600" cy="149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6600" indent="-3366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Genera números reales aleatorios con distribución normal (gaussiana) de media 0 y desviación estándar 1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73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s-ES" sz="2400" spc="-1" strike="noStrike">
                <a:solidFill>
                  <a:srgbClr val="c00000"/>
                </a:solidFill>
                <a:latin typeface="Courier New"/>
              </a:rPr>
              <a:t>randn(M,N)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genera una matriz Mx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Footer Placeholder 6"/>
          <p:cNvSpPr/>
          <p:nvPr/>
        </p:nvSpPr>
        <p:spPr>
          <a:xfrm>
            <a:off x="5089680" y="101520"/>
            <a:ext cx="47210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Funciones de MATLAB</a:t>
            </a: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103" name="Title 4"/>
          <p:cNvSpPr/>
          <p:nvPr/>
        </p:nvSpPr>
        <p:spPr>
          <a:xfrm>
            <a:off x="387360" y="836640"/>
            <a:ext cx="920916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Función </a:t>
            </a:r>
            <a:r>
              <a:rPr b="1" lang="es-ES" sz="3600" spc="-1" strike="noStrike">
                <a:solidFill>
                  <a:srgbClr val="000000"/>
                </a:solidFill>
                <a:latin typeface="Courier New"/>
              </a:rPr>
              <a:t>randn</a:t>
            </a:r>
            <a:endParaRPr b="0" lang="en-US" sz="36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104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Métodos Aleatorios</a:t>
            </a: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pic>
        <p:nvPicPr>
          <p:cNvPr id="105" name="Picture 6" descr=""/>
          <p:cNvPicPr/>
          <p:nvPr/>
        </p:nvPicPr>
        <p:blipFill>
          <a:blip r:embed="rId1"/>
          <a:stretch/>
        </p:blipFill>
        <p:spPr>
          <a:xfrm>
            <a:off x="488880" y="3500280"/>
            <a:ext cx="649440" cy="57960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3"/>
          <p:cNvSpPr/>
          <p:nvPr/>
        </p:nvSpPr>
        <p:spPr>
          <a:xfrm>
            <a:off x="57240" y="4005360"/>
            <a:ext cx="26366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6600" indent="-336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Calibri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Calibri"/>
              </a:rPr>
              <a:t>EJEMPLO_03.m</a:t>
            </a:r>
            <a:br>
              <a:rPr sz="2000"/>
            </a:br>
            <a:r>
              <a:rPr b="1" lang="es-ES" sz="1800" spc="-1" strike="noStrike">
                <a:solidFill>
                  <a:srgbClr val="000000"/>
                </a:solidFill>
                <a:latin typeface="Courier New"/>
              </a:rPr>
              <a:t>&gt;&gt; …</a:t>
            </a:r>
            <a:endParaRPr b="0" lang="en-US" sz="18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336600" indent="-336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Courier New"/>
              </a:rPr>
              <a:t>&gt;&gt; randn(1,100)</a:t>
            </a:r>
            <a:endParaRPr b="0" lang="en-US" sz="18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336600" indent="-336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Courier New"/>
              </a:rPr>
              <a:t>&gt;&gt; …</a:t>
            </a:r>
            <a:endParaRPr b="0" lang="en-US" sz="1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pic>
        <p:nvPicPr>
          <p:cNvPr id="107" name="Picture 10" descr=""/>
          <p:cNvPicPr/>
          <p:nvPr/>
        </p:nvPicPr>
        <p:blipFill>
          <a:blip r:embed="rId2"/>
          <a:stretch/>
        </p:blipFill>
        <p:spPr>
          <a:xfrm>
            <a:off x="2717640" y="3068640"/>
            <a:ext cx="7059600" cy="32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11" descr=""/>
          <p:cNvPicPr/>
          <p:nvPr/>
        </p:nvPicPr>
        <p:blipFill>
          <a:blip r:embed="rId1"/>
          <a:stretch/>
        </p:blipFill>
        <p:spPr>
          <a:xfrm>
            <a:off x="3081240" y="836640"/>
            <a:ext cx="6696000" cy="2735280"/>
          </a:xfrm>
          <a:prstGeom prst="rect">
            <a:avLst/>
          </a:prstGeom>
          <a:ln w="0">
            <a:noFill/>
          </a:ln>
        </p:spPr>
      </p:pic>
      <p:sp>
        <p:nvSpPr>
          <p:cNvPr id="109" name="AutoShape 13"/>
          <p:cNvSpPr/>
          <p:nvPr/>
        </p:nvSpPr>
        <p:spPr>
          <a:xfrm rot="5400000">
            <a:off x="1388880" y="1520640"/>
            <a:ext cx="431640" cy="216000"/>
          </a:xfrm>
          <a:prstGeom prst="rightArrow">
            <a:avLst>
              <a:gd name="adj1" fmla="val 50000"/>
              <a:gd name="adj2" fmla="val 4995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110" name="Footer Placeholder 6"/>
          <p:cNvSpPr/>
          <p:nvPr/>
        </p:nvSpPr>
        <p:spPr>
          <a:xfrm>
            <a:off x="5089680" y="101520"/>
            <a:ext cx="47210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Funciones de MATLAB</a:t>
            </a: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111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Métodos Aleatorios</a:t>
            </a: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112" name="Rectangle 3"/>
          <p:cNvSpPr/>
          <p:nvPr/>
        </p:nvSpPr>
        <p:spPr>
          <a:xfrm>
            <a:off x="0" y="2779560"/>
            <a:ext cx="3152880" cy="18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6600" indent="-336600">
              <a:spcBef>
                <a:spcPts val="14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s-ES" sz="2200" spc="-1" strike="noStrike">
                <a:solidFill>
                  <a:srgbClr val="000000"/>
                </a:solidFill>
                <a:latin typeface="Calibri"/>
              </a:rPr>
              <a:t>La función de distribución es tanto más visible cuanto mayor es el número de muestras generadas.</a:t>
            </a:r>
            <a:endParaRPr b="0" lang="en-US" sz="22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704880" y="1857600"/>
            <a:ext cx="2160720" cy="580680"/>
          </a:xfrm>
          <a:prstGeom prst="rect">
            <a:avLst/>
          </a:prstGeom>
          <a:solidFill>
            <a:srgbClr val="ffffff">
              <a:alpha val="8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36600" indent="-336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ourier New"/>
              </a:rPr>
              <a:t>Media = -0.0177</a:t>
            </a:r>
            <a:endParaRPr b="0" lang="en-US" sz="16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336600" indent="-336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ourier New"/>
              </a:rPr>
              <a:t>Std = 1.0150</a:t>
            </a:r>
            <a:endParaRPr b="0" lang="en-US" sz="16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114" name="Rectangle 3"/>
          <p:cNvSpPr/>
          <p:nvPr/>
        </p:nvSpPr>
        <p:spPr>
          <a:xfrm>
            <a:off x="587520" y="1045080"/>
            <a:ext cx="2278080" cy="368280"/>
          </a:xfrm>
          <a:prstGeom prst="rect">
            <a:avLst/>
          </a:prstGeom>
          <a:solidFill>
            <a:srgbClr val="ffffff">
              <a:alpha val="8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36600" indent="-336600">
              <a:lnSpc>
                <a:spcPct val="100000"/>
              </a:lnSpc>
              <a:spcBef>
                <a:spcPts val="14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urier New"/>
              </a:rPr>
              <a:t>&gt;&gt; randn(1,100)</a:t>
            </a:r>
            <a:endParaRPr b="0" lang="en-US" sz="1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pic>
        <p:nvPicPr>
          <p:cNvPr id="115" name="Picture 12" descr=""/>
          <p:cNvPicPr/>
          <p:nvPr/>
        </p:nvPicPr>
        <p:blipFill>
          <a:blip r:embed="rId2"/>
          <a:stretch/>
        </p:blipFill>
        <p:spPr>
          <a:xfrm>
            <a:off x="3081240" y="3703680"/>
            <a:ext cx="6696000" cy="2749680"/>
          </a:xfrm>
          <a:prstGeom prst="rect">
            <a:avLst/>
          </a:prstGeom>
          <a:ln w="0">
            <a:noFill/>
          </a:ln>
        </p:spPr>
      </p:pic>
      <p:sp>
        <p:nvSpPr>
          <p:cNvPr id="116" name="AutoShape 14"/>
          <p:cNvSpPr/>
          <p:nvPr/>
        </p:nvSpPr>
        <p:spPr>
          <a:xfrm rot="5400000">
            <a:off x="1388880" y="5349600"/>
            <a:ext cx="431640" cy="216000"/>
          </a:xfrm>
          <a:prstGeom prst="rightArrow">
            <a:avLst>
              <a:gd name="adj1" fmla="val 50000"/>
              <a:gd name="adj2" fmla="val 4995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117" name="Rectangle 3"/>
          <p:cNvSpPr/>
          <p:nvPr/>
        </p:nvSpPr>
        <p:spPr>
          <a:xfrm>
            <a:off x="704880" y="5686560"/>
            <a:ext cx="2160720" cy="580680"/>
          </a:xfrm>
          <a:prstGeom prst="rect">
            <a:avLst/>
          </a:prstGeom>
          <a:solidFill>
            <a:srgbClr val="ffffff">
              <a:alpha val="8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36600" indent="-336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ourier New"/>
              </a:rPr>
              <a:t>Media = 0.0021</a:t>
            </a:r>
            <a:endParaRPr b="0" lang="en-US" sz="16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336600" indent="-336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ourier New"/>
              </a:rPr>
              <a:t>Std = 0.9979</a:t>
            </a:r>
            <a:endParaRPr b="0" lang="en-US" sz="16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118" name="Rectangle 3"/>
          <p:cNvSpPr/>
          <p:nvPr/>
        </p:nvSpPr>
        <p:spPr>
          <a:xfrm>
            <a:off x="587520" y="4874400"/>
            <a:ext cx="2278080" cy="368280"/>
          </a:xfrm>
          <a:prstGeom prst="rect">
            <a:avLst/>
          </a:prstGeom>
          <a:solidFill>
            <a:srgbClr val="ffffff">
              <a:alpha val="8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36600" indent="-336600">
              <a:lnSpc>
                <a:spcPct val="100000"/>
              </a:lnSpc>
              <a:spcBef>
                <a:spcPts val="14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urier New"/>
              </a:rPr>
              <a:t>&gt;&gt; randn(1,1e5)</a:t>
            </a:r>
            <a:endParaRPr b="0" lang="en-US" sz="1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2T19:55:16Z</dcterms:created>
  <dc:creator>Rocío del Río</dc:creator>
  <dc:description/>
  <dc:language>en-US</dc:language>
  <cp:lastModifiedBy>Rocio del Rio</cp:lastModifiedBy>
  <dcterms:modified xsi:type="dcterms:W3CDTF">2010-11-02T11:54:08Z</dcterms:modified>
  <cp:revision>2905</cp:revision>
  <dc:subject/>
  <dc:title/>
</cp:coreProperties>
</file>